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png" ContentType="image/png"/>
  <Override PartName="/ppt/media/image29.wmf" ContentType="image/x-wmf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dt" idx="6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 type="ftr" idx="6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6"/>
          <p:cNvSpPr>
            <a:spLocks noGrp="1"/>
          </p:cNvSpPr>
          <p:nvPr>
            <p:ph type="sldNum" idx="6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485B4-8C9B-4BAD-9571-266B98A21E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fondé sur une approche globale de la santé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resserré sur l’objectif et le résultat à atteind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Qui engage tous les acteurs de santé à développer davantage la transversalité entre les secteurs de la prévention, du sanitaire et du médico-social, et la coordination avec les autres politiques publ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8E103-905B-4664-8A88-D0D94B89DA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1ECD3-0558-41DA-BDB8-04F8E23F07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48CA9-24C7-4C58-A658-F5004CAB96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58435-959C-4BA8-A613-586CDFFF63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3CC47A-9F5A-4665-9DFE-E3EDF471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4795A3-E223-42B8-A539-E45B2006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33684E-AB41-4216-8491-4D6E2127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801617-D617-4A04-8596-C67EA49D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6AF721-1F81-4E3E-94ED-D66B11F9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B2A4E3-397A-4B7E-8A43-960FCD9B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633946-2251-45E4-BEF7-9A426A86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8AAB30-8817-4A99-81B5-B7FED0A1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111C64-7F49-4BEE-BB4F-3AE617DC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E270-4CAE-4701-9829-206E5DCD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8CACB-7ADE-4F40-B52E-701C55E3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66988C-CB6B-4CBE-BD28-61F2639A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512FA7-3D6E-451B-B41F-E8F72795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9B5508-71F6-40A8-A122-9B49CBE4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F457B6-0B8C-4152-8594-A4D2CBAE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11897A-C070-4FEC-B509-4D3D75E8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693333-9F0C-4C29-BBDE-94E54433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C24F24-9839-4664-8B5D-F913E54F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0B3640-BA2E-4562-BD09-C1D8E62E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1A58B4-1C9A-49AA-9A6C-52F0C661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019-2749-4695-A87A-275EA532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C59DD1-733C-4AA1-BDC4-A3124F81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3EBD2C-C6A8-449D-9865-D4637CFC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403AD6-495E-48E1-B4E2-A4EA916E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0926C2-6CCE-4B96-988B-4EDD9E70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972C00-2785-4E03-A7B2-062BD148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EF1538-D425-4C59-BFBA-5AAD2076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6ECB56-DF59-4FBE-9615-95E1BF4C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4A2901-1775-4415-9F60-EC5E3D42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9E4B15-76E3-4AE4-BE67-FFC548BE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40C9EE-A4F3-4FF2-A4A7-7EA20E57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671-18D2-42CA-937B-5C2BD909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6B0C89-670F-41B7-9442-8ABB9491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B310F2-AB3A-4F46-AC8E-EFDC7DEA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82B472-67E1-4D33-94F9-8C98B910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939902-7E0E-434A-85B2-D2E1E0DF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2ED370-5A99-455F-A524-603CCF89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B2E5A4-93C8-4352-A08A-EC96E229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A1A79F-A1BB-414F-897E-E8BD88E9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4EA049-7571-4BB8-B35A-242FAFCB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214A8D-BA00-4847-97D5-525C3352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BCD176-F1A8-4660-B0BA-17A46804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A0D-C6F5-4045-95B7-1505C745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81F467-E85C-403C-9837-D69DC230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9807A8-95A1-4E35-9767-3D8AA95A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51448F-69E5-4A65-8E57-81FDD83D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4FCAE9-5EEC-4D32-B183-D60171D4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070B14-5606-4AB4-8511-FA032390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FFCD00-8117-446D-A2FE-3931D2B7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7F8055-FD94-4D11-AF83-0E24524F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FE6CF4-3967-421F-B1D5-C0B035CF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2D8535-1794-479A-8148-D34D9DB1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D9EAAD-DCE5-47E7-BA66-0FE64E25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54E1-27FB-4428-B391-EA5A3D8E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8B2F48-FF8A-43CF-AD69-5544759B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4905ED-7C0C-45AF-9188-EBF0D32F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9531EB-B1E3-4491-A844-B54464F3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D13708-DFFC-420E-B634-AE9314CC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7FAE2E-8646-4908-A53D-B699F9E3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7CCCE0-3812-405A-8C00-C9F20749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77D0BA-A1A4-4E73-B02C-59940A05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928A1A-F7EC-42C9-B3E9-46066441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435941-BC0C-4A17-BE17-305DCCAD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32262E-5C74-4898-9489-31C10CD5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8C5-1DE8-4C5C-B771-0C680534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C0D7C0-E19A-43EA-A62D-162409D5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BBC01D-241F-4203-A715-0E27EB87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954EDE-D79C-4B3F-8709-BE00DEC7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11264F-3687-4EF5-B953-21EE2D92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C6CBD8-4918-4861-946A-F2A577CC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7355B9-1383-4E0E-AA18-F3CC85EB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572A4E-35C6-498D-87EE-2FB76DBF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975ACC-1F1F-4F6D-8679-0EA22A29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88EC32-0809-4512-BFFF-C5AF7D47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83FD98-FA22-4E0E-9AD5-8E188B43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F3B-3381-43A4-B7ED-5248ADD9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3F4FA2-A5B3-456F-844C-88B5B38F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798305-2254-41CA-BFA7-6A0C59DE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1207FE-C150-4C7E-A3C9-6994C237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3960BC-0725-4FE2-AF0D-4C784BEF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CBE1C3-9D75-44A9-A77D-5A63C8F3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FE3103-AB6D-4816-8302-418D08D1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236314-9DA0-41F2-AE2C-0829C9EC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1096EA-F723-4B02-AE72-C84A3280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9994C9-037F-446A-97A4-C09B2F4A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EB8A52-0F31-4779-BE84-6DB2041D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B847-156D-4271-9A6D-1C1581D0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30E660-35C8-46C0-86FB-253785E8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442C49-AFCD-461E-A8E4-B0EC74F4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9636A1-B4B3-4E20-8D35-9B2BAA08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D32CED-C024-4523-89D6-7A99C794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29DE7E-FF13-4BF6-9D72-AB905D2E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004692-2247-4274-A4FD-597D7E2A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880B65-ADAD-449F-A31D-30C346BE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7CC263-EEF7-43C0-A39F-B98757C0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98F7BE-1D46-47F1-A9E1-67BAA660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88FABF-9344-4331-96D7-6F6C9A60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CCC-12F6-4063-BD9E-4145F2C5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F0457C-EC14-4011-ADCB-25646EBC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B7FBE5-AB9C-4393-B5A0-98CD9E00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00D56D-02BE-4E2E-A9C0-D9A1D623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20118F-ED4D-467F-A9A5-2A4679B1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8657D4-EF93-44B7-9315-3CD81AA2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D9B5A3-66CE-4604-ACF0-FF496C74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ED43E1-9C28-4506-BAA4-95DF78E0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DDB644-D9C9-41FB-AF92-6E77109F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12510A-8B94-496B-9A11-04E1A6C7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AED104-B3BD-4DCF-A3CA-40919303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2B2-4D87-46EE-AA15-28E48933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9D3137-E060-4EB9-83A9-352115AA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5C72F8-AC45-43FB-AB45-3B746F96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7C90F4-46D3-4569-8C1C-6193E550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1D7ACC-7DB7-4318-98DB-3DA67DCD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A6A52D-0FCC-4C0E-96CC-5CC85264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77A52F-E560-4D04-BD3C-3B1FFB9D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B6BB18-FDD3-4ED3-AB4C-CCB6C580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C74C19-9358-4D94-A295-3E541947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237BA0-28EA-4042-9415-1CFB2E4E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5FDC5A-32E4-43AF-BE30-6BA8960A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C6C-9774-4B32-9927-816389EC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6B3180-7345-4184-9E38-4FCFC7A0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CC310A-2F84-4BCD-9CB2-D0DD89BC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C3909C8-DFA0-4E2F-AD35-A7782237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C146154-E0F7-438B-98C1-CB86468F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78703F-3C31-46FB-921D-3ED47B9B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B3CADB2-1813-4116-BFD7-64C31888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B3887B-60C0-49FC-BDDE-62550244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B65567-5509-4E4F-B152-FC38CB40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65DDE30-53BA-46A5-A687-ADF3C3E5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511201-12D2-457D-8DC4-5663BD6E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2DBB-4688-4AC0-B1C6-B1E844A5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56F4F7-E56B-4CC2-B920-EB31E2B0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1494A6-5539-4FAE-803A-1AE867DA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9250584-2C57-48CE-8CF3-2D28C28D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449B5C8-D264-4E6F-A0BF-CAEE61CD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C72ACDC-0B69-4231-AED4-B2C8CCC5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19F32A-70D2-487D-A85D-B1BC6211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1AFAEF0-4A71-46FC-B2AF-078F30EF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28899B6-181D-4351-845E-5C965E8E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C459609-4000-4CEF-820E-6FB802B3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1EFE89-A152-4212-96A8-D3D0870A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923CDED-D89A-4738-924A-83EC19B6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F309CF-A44E-43BE-9199-A95F6B59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DD36CF-1333-46D6-AA03-0DB3FA2B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DA9881-05C6-4998-85D3-0EC560372C48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12F6B86-844C-45B6-81B4-A2E6E3E6AEAE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85217AA-B201-4453-ADA7-15C9A680A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8D0140C-E32B-4AB1-843B-EAB2E2D762BD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A991419-03B5-4F5B-A033-113778696B98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A77E585-24E3-4ED8-BAC8-EA05E1C5DDF8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64A321E-9DBD-4E62-ACF1-2584541DC984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559E0EE-A1E5-45D5-92B9-D14BAC3511F8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B4EB47-B565-4AB2-B5E4-7BA7D3E8E802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F3CAD4A-B9D1-435A-8B55-1E7CED658D74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53DA11E-54A6-472E-9039-E41CAB2E22CC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D5C8719-E390-40FE-B997-F3A267B3A6F9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B99350-7AEB-4B3A-BABD-2206D4E50641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6F499E-B246-4622-A9EC-4EDF6887207F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9CEC0F-EE47-4DDB-9774-DDB2A1F7EBAE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0F46C0-7F35-4DED-87D5-E52A371892C7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F529DB-61FC-43DD-BDF2-E0F5F3C2FCA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C9CE55-8910-4423-82AA-CE24CD1A66CD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D9ACB9-721D-434F-8239-A0F0F0E53A5A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020DB3-8DAB-43D8-A0D1-8711E9F8BA55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B5DCEE-E9C5-4896-8B2C-89B35C2F7CCC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357122-7CA5-4607-97C8-6E158E2F6ABB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D6BB8A-B1C5-4A02-96EB-3B8641063992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73D204-B359-4FA0-A619-1B99E925442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9C71E-6769-482B-9EFF-C6965A75682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BFE39-DB1A-4376-A8B4-A68AE18A5CA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1D139-A7AA-46A3-90F1-84CCFAAA942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1A5C0-126C-4C5E-9ABE-EA483C08AC2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69AC1-F1D9-46D9-89ED-27C80CF68DF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4EB3D-101D-42C2-B8AE-4735E62098B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6FCEE-86B5-4F92-82F8-3DFEA4FD3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3334A-DB84-405E-8773-B5749545C74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61FD5-71CA-49DC-8AF0-4D8B3544296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C2771-02E0-4C6C-9DBF-6B757CA0074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F2B2A-44E2-4209-9908-BB949C5096C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78010-C761-423D-B757-840D2AFBF56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81.xml"/><Relationship Id="rId6" Type="http://schemas.openxmlformats.org/officeDocument/2006/relationships/slideLayout" Target="../slideLayouts/slideLayout482.xml"/><Relationship Id="rId7" Type="http://schemas.openxmlformats.org/officeDocument/2006/relationships/slideLayout" Target="../slideLayouts/slideLayout483.xml"/><Relationship Id="rId8" Type="http://schemas.openxmlformats.org/officeDocument/2006/relationships/slideLayout" Target="../slideLayouts/slideLayout484.xml"/><Relationship Id="rId9" Type="http://schemas.openxmlformats.org/officeDocument/2006/relationships/slideLayout" Target="../slideLayouts/slideLayout485.xml"/><Relationship Id="rId10" Type="http://schemas.openxmlformats.org/officeDocument/2006/relationships/slideLayout" Target="../slideLayouts/slideLayout486.xml"/><Relationship Id="rId11" Type="http://schemas.openxmlformats.org/officeDocument/2006/relationships/slideLayout" Target="../slideLayouts/slideLayout487.xml"/><Relationship Id="rId12" Type="http://schemas.openxmlformats.org/officeDocument/2006/relationships/slideLayout" Target="../slideLayouts/slideLayout488.xml"/><Relationship Id="rId13" Type="http://schemas.openxmlformats.org/officeDocument/2006/relationships/slideLayout" Target="../slideLayouts/slideLayout489.xml"/><Relationship Id="rId14" Type="http://schemas.openxmlformats.org/officeDocument/2006/relationships/slideLayout" Target="../slideLayouts/slideLayout490.xml"/><Relationship Id="rId15" Type="http://schemas.openxmlformats.org/officeDocument/2006/relationships/slideLayout" Target="../slideLayouts/slideLayout491.xml"/><Relationship Id="rId16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17.xml"/><Relationship Id="rId6" Type="http://schemas.openxmlformats.org/officeDocument/2006/relationships/slideLayout" Target="../slideLayouts/slideLayout518.xml"/><Relationship Id="rId7" Type="http://schemas.openxmlformats.org/officeDocument/2006/relationships/slideLayout" Target="../slideLayouts/slideLayout519.xml"/><Relationship Id="rId8" Type="http://schemas.openxmlformats.org/officeDocument/2006/relationships/slideLayout" Target="../slideLayouts/slideLayout520.xml"/><Relationship Id="rId9" Type="http://schemas.openxmlformats.org/officeDocument/2006/relationships/slideLayout" Target="../slideLayouts/slideLayout521.xml"/><Relationship Id="rId10" Type="http://schemas.openxmlformats.org/officeDocument/2006/relationships/slideLayout" Target="../slideLayouts/slideLayout522.xml"/><Relationship Id="rId11" Type="http://schemas.openxmlformats.org/officeDocument/2006/relationships/slideLayout" Target="../slideLayouts/slideLayout523.xml"/><Relationship Id="rId12" Type="http://schemas.openxmlformats.org/officeDocument/2006/relationships/slideLayout" Target="../slideLayouts/slideLayout524.xml"/><Relationship Id="rId13" Type="http://schemas.openxmlformats.org/officeDocument/2006/relationships/slideLayout" Target="../slideLayouts/slideLayout525.xml"/><Relationship Id="rId14" Type="http://schemas.openxmlformats.org/officeDocument/2006/relationships/slideLayout" Target="../slideLayouts/slideLayout526.xml"/><Relationship Id="rId15" Type="http://schemas.openxmlformats.org/officeDocument/2006/relationships/slideLayout" Target="../slideLayouts/slideLayout527.xml"/><Relationship Id="rId16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29.xml"/><Relationship Id="rId6" Type="http://schemas.openxmlformats.org/officeDocument/2006/relationships/slideLayout" Target="../slideLayouts/slideLayout530.xml"/><Relationship Id="rId7" Type="http://schemas.openxmlformats.org/officeDocument/2006/relationships/slideLayout" Target="../slideLayouts/slideLayout531.xml"/><Relationship Id="rId8" Type="http://schemas.openxmlformats.org/officeDocument/2006/relationships/slideLayout" Target="../slideLayouts/slideLayout532.xml"/><Relationship Id="rId9" Type="http://schemas.openxmlformats.org/officeDocument/2006/relationships/slideLayout" Target="../slideLayouts/slideLayout533.xml"/><Relationship Id="rId10" Type="http://schemas.openxmlformats.org/officeDocument/2006/relationships/slideLayout" Target="../slideLayouts/slideLayout534.xml"/><Relationship Id="rId11" Type="http://schemas.openxmlformats.org/officeDocument/2006/relationships/slideLayout" Target="../slideLayouts/slideLayout535.xml"/><Relationship Id="rId12" Type="http://schemas.openxmlformats.org/officeDocument/2006/relationships/slideLayout" Target="../slideLayouts/slideLayout536.xml"/><Relationship Id="rId13" Type="http://schemas.openxmlformats.org/officeDocument/2006/relationships/slideLayout" Target="../slideLayouts/slideLayout537.xml"/><Relationship Id="rId14" Type="http://schemas.openxmlformats.org/officeDocument/2006/relationships/slideLayout" Target="../slideLayouts/slideLayout538.xml"/><Relationship Id="rId15" Type="http://schemas.openxmlformats.org/officeDocument/2006/relationships/slideLayout" Target="../slideLayouts/slideLayout539.xml"/><Relationship Id="rId16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41.xml"/><Relationship Id="rId6" Type="http://schemas.openxmlformats.org/officeDocument/2006/relationships/slideLayout" Target="../slideLayouts/slideLayout542.xml"/><Relationship Id="rId7" Type="http://schemas.openxmlformats.org/officeDocument/2006/relationships/slideLayout" Target="../slideLayouts/slideLayout543.xml"/><Relationship Id="rId8" Type="http://schemas.openxmlformats.org/officeDocument/2006/relationships/slideLayout" Target="../slideLayouts/slideLayout544.xml"/><Relationship Id="rId9" Type="http://schemas.openxmlformats.org/officeDocument/2006/relationships/slideLayout" Target="../slideLayouts/slideLayout545.xml"/><Relationship Id="rId10" Type="http://schemas.openxmlformats.org/officeDocument/2006/relationships/slideLayout" Target="../slideLayouts/slideLayout546.xml"/><Relationship Id="rId11" Type="http://schemas.openxmlformats.org/officeDocument/2006/relationships/slideLayout" Target="../slideLayouts/slideLayout547.xml"/><Relationship Id="rId12" Type="http://schemas.openxmlformats.org/officeDocument/2006/relationships/slideLayout" Target="../slideLayouts/slideLayout548.xml"/><Relationship Id="rId13" Type="http://schemas.openxmlformats.org/officeDocument/2006/relationships/slideLayout" Target="../slideLayouts/slideLayout549.xml"/><Relationship Id="rId14" Type="http://schemas.openxmlformats.org/officeDocument/2006/relationships/slideLayout" Target="../slideLayouts/slideLayout550.xml"/><Relationship Id="rId15" Type="http://schemas.openxmlformats.org/officeDocument/2006/relationships/slideLayout" Target="../slideLayouts/slideLayout551.xml"/><Relationship Id="rId16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5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359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0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01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4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43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8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1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2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27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1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6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69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1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1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11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1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5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53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1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9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95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1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3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737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1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38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9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7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1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F05D2-1336-441C-A53A-565EF52B1FE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EC731-52EE-44E3-97FC-08714B3A130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648A5-6BF0-4731-8F30-0A388FCE018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D4AD4-E604-4D04-B460-BB39C6068F6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5FC28-F1A8-400E-ACA5-D8251EBF38D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62ACC-CE8A-4F19-905B-81DFFDC7F08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BBCE7-15A6-43B7-A82C-18EBF9AB918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A9A06-627B-431A-9A76-F313345E216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0B866-9ECC-4FFB-88B4-ECDC59F90C1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A0EF-1DF6-4C50-989C-98BE45C1B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A67B18-C3FF-4560-8B4C-2DE6ABAB7A2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09B6B-B7CA-4BBB-94DC-C60008D9F3B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Image 6" descr=""/>
          <p:cNvPicPr/>
          <p:nvPr/>
        </p:nvPicPr>
        <p:blipFill>
          <a:blip r:embed="rId2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5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400" spc="-1" strike="noStrike">
                <a:solidFill>
                  <a:srgbClr val="2fa17c"/>
                </a:solidFill>
                <a:latin typeface="Microsoft PhagsP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313" name="PlaceHolder 1"/>
          <p:cNvSpPr>
            <a:spLocks noGrp="1"/>
          </p:cNvSpPr>
          <p:nvPr>
            <p:ph type="dt" idx="52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1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sldNum" idx="53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79653-4104-4997-9674-70E7F2ABCC7C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39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31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 type="dt" idx="5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7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473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5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1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15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 type="dt" idx="5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57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5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9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99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5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4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41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dt" idx="5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5"/>
    <p:sldLayoutId id="2147484170" r:id="rId6"/>
    <p:sldLayoutId id="2147484171" r:id="rId7"/>
    <p:sldLayoutId id="2147484172" r:id="rId8"/>
    <p:sldLayoutId id="2147484173" r:id="rId9"/>
    <p:sldLayoutId id="2147484174" r:id="rId10"/>
    <p:sldLayoutId id="2147484175" r:id="rId11"/>
    <p:sldLayoutId id="2147484176" r:id="rId12"/>
    <p:sldLayoutId id="2147484177" r:id="rId13"/>
    <p:sldLayoutId id="2147484178" r:id="rId14"/>
    <p:sldLayoutId id="2147484179" r:id="rId15"/>
    <p:sldLayoutId id="2147484180" r:id="rId16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8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83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6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2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25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dt" idx="6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6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67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 type="dt" idx="6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5"/>
    <p:sldLayoutId id="2147484209" r:id="rId6"/>
    <p:sldLayoutId id="2147484210" r:id="rId7"/>
    <p:sldLayoutId id="2147484211" r:id="rId8"/>
    <p:sldLayoutId id="2147484212" r:id="rId9"/>
    <p:sldLayoutId id="2147484213" r:id="rId10"/>
    <p:sldLayoutId id="2147484214" r:id="rId11"/>
    <p:sldLayoutId id="2147484215" r:id="rId12"/>
    <p:sldLayoutId id="2147484216" r:id="rId13"/>
    <p:sldLayoutId id="2147484217" r:id="rId14"/>
    <p:sldLayoutId id="2147484218" r:id="rId15"/>
    <p:sldLayoutId id="2147484219" r:id="rId16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0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09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 type="dt" idx="6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5"/>
    <p:sldLayoutId id="2147484222" r:id="rId6"/>
    <p:sldLayoutId id="2147484223" r:id="rId7"/>
    <p:sldLayoutId id="2147484224" r:id="rId8"/>
    <p:sldLayoutId id="2147484225" r:id="rId9"/>
    <p:sldLayoutId id="2147484226" r:id="rId10"/>
    <p:sldLayoutId id="2147484227" r:id="rId11"/>
    <p:sldLayoutId id="2147484228" r:id="rId12"/>
    <p:sldLayoutId id="2147484229" r:id="rId13"/>
    <p:sldLayoutId id="2147484230" r:id="rId14"/>
    <p:sldLayoutId id="2147484231" r:id="rId15"/>
    <p:sldLayoutId id="2147484232" r:id="rId16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5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51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 type="dt" idx="6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5"/>
    <p:sldLayoutId id="2147484235" r:id="rId6"/>
    <p:sldLayoutId id="2147484236" r:id="rId7"/>
    <p:sldLayoutId id="2147484237" r:id="rId8"/>
    <p:sldLayoutId id="2147484238" r:id="rId9"/>
    <p:sldLayoutId id="2147484239" r:id="rId10"/>
    <p:sldLayoutId id="2147484240" r:id="rId11"/>
    <p:sldLayoutId id="2147484241" r:id="rId12"/>
    <p:sldLayoutId id="2147484242" r:id="rId13"/>
    <p:sldLayoutId id="2147484243" r:id="rId14"/>
    <p:sldLayoutId id="2147484244" r:id="rId15"/>
    <p:sldLayoutId id="2147484245" r:id="rId16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9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6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933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934" name="Rectangle 5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5" name="Picture 2" descr="I:\DIRECTION_GENERALE\COMMUNICATION\COM INTERNE\REFORME_TERRITORIALE\Outils_enligne_intranet\modele_diaporama\img_ars.jpg"/>
          <p:cNvPicPr/>
          <p:nvPr/>
        </p:nvPicPr>
        <p:blipFill>
          <a:blip r:embed="rId4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 type="sldNum" idx="66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02733-4BB9-4111-A830-664B1E23FE8A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1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dt" idx="4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1740D-C26B-4DB4-B868-43BC3E3A617A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27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17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csp/explore.cgi/avisrapportsdomaine?clefr=627" TargetMode="External"/><Relationship Id="rId2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COTRIM NOUVELLE-AQUITAINE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17 octobre 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3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103320" y="0"/>
            <a:ext cx="24429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7" name="Picture 3" descr=""/>
          <p:cNvPicPr/>
          <p:nvPr/>
        </p:nvPicPr>
        <p:blipFill>
          <a:blip r:embed="rId1"/>
          <a:srcRect l="33437" t="31668" r="16815" b="25001"/>
          <a:stretch/>
        </p:blipFill>
        <p:spPr>
          <a:xfrm>
            <a:off x="3240000" y="4068720"/>
            <a:ext cx="4578480" cy="2243160"/>
          </a:xfrm>
          <a:prstGeom prst="rect">
            <a:avLst/>
          </a:prstGeom>
          <a:ln w="0">
            <a:noFill/>
          </a:ln>
        </p:spPr>
      </p:pic>
      <p:sp>
        <p:nvSpPr>
          <p:cNvPr id="2008" name=""/>
          <p:cNvSpPr txBox="1"/>
          <p:nvPr/>
        </p:nvSpPr>
        <p:spPr>
          <a:xfrm>
            <a:off x="468360" y="169992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PRS c’est </a:t>
            </a:r>
            <a:r>
              <a:rPr b="1" lang="fr-FR" sz="3200" spc="-1" strike="noStrike">
                <a:solidFill>
                  <a:srgbClr val="000000"/>
                </a:solidFill>
                <a:latin typeface="Microsoft PhagsP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4247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Cadre d’orientation stratégique (CO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10 ans : 2018-202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Schéma régional de santé (SR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Programme régional d’accès à la prévention et soins (PRAP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 txBox="1"/>
          <p:nvPr/>
        </p:nvSpPr>
        <p:spPr>
          <a:xfrm>
            <a:off x="539640" y="22478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Ce qui change avec le PRS de 2</a:t>
            </a:r>
            <a:r>
              <a:rPr b="1" lang="fr-FR" sz="2700" spc="-1" strike="noStrike" baseline="30000">
                <a:solidFill>
                  <a:srgbClr val="000000"/>
                </a:solidFill>
                <a:latin typeface="Microsoft PhagsPa"/>
              </a:rPr>
              <a:t>ème</a:t>
            </a: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 génér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/>
          </p:nvPr>
        </p:nvSpPr>
        <p:spPr>
          <a:xfrm>
            <a:off x="611280" y="3068280"/>
            <a:ext cx="8424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COS plus prospectif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SRS uniqu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Alors que l’ancien PRS comportait 3 schémas (prévention, organisation des soins, organisation médico-socia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Construit autour d’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objectifs opérationnels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lisibles et évalu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24000" y="22050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icrosoft PhagsPa"/>
              </a:rPr>
              <a:t>L’élaboration du PRS Nouvelle-Aquitaine s’appuie s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/>
          </p:nvPr>
        </p:nvSpPr>
        <p:spPr>
          <a:xfrm>
            <a:off x="399600" y="2565360"/>
            <a:ext cx="842508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diagnostic régional</a:t>
            </a: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, décliné en 12 volets territoriau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(territoires de démocratie sanit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bilan des PRS des anciennes ré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Aquitaine, Limousin et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e évaluation du PRS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Rectangle à coins arrondis 5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Titre 1"/>
          <p:cNvSpPr/>
          <p:nvPr/>
        </p:nvSpPr>
        <p:spPr>
          <a:xfrm>
            <a:off x="395280" y="11592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</a:t>
            </a: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DÉMARCHE : ÉLABORATION</a:t>
            </a:r>
            <a:br>
              <a:rPr sz="15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0" name="Picture 2" descr=""/>
          <p:cNvPicPr/>
          <p:nvPr/>
        </p:nvPicPr>
        <p:blipFill>
          <a:blip r:embed="rId1"/>
          <a:stretch/>
        </p:blipFill>
        <p:spPr>
          <a:xfrm>
            <a:off x="6012000" y="5230800"/>
            <a:ext cx="1655640" cy="1617840"/>
          </a:xfrm>
          <a:prstGeom prst="rect">
            <a:avLst/>
          </a:prstGeom>
          <a:ln w="0">
            <a:noFill/>
          </a:ln>
        </p:spPr>
      </p:pic>
      <p:pic>
        <p:nvPicPr>
          <p:cNvPr id="2021" name="Picture 2" descr=""/>
          <p:cNvPicPr/>
          <p:nvPr/>
        </p:nvPicPr>
        <p:blipFill>
          <a:blip r:embed="rId2"/>
          <a:stretch/>
        </p:blipFill>
        <p:spPr>
          <a:xfrm rot="467400">
            <a:off x="6746400" y="3472920"/>
            <a:ext cx="1190880" cy="168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 txBox="1"/>
          <p:nvPr/>
        </p:nvSpPr>
        <p:spPr>
          <a:xfrm>
            <a:off x="23976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cadre d’orientation stratégique (le C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S ORIENTATIONS STRATÉG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Rectangle 1"/>
          <p:cNvSpPr/>
          <p:nvPr/>
        </p:nvSpPr>
        <p:spPr>
          <a:xfrm>
            <a:off x="3924360" y="2975040"/>
            <a:ext cx="3971880" cy="15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8080"/>
                </a:solidFill>
                <a:latin typeface="Calibri"/>
              </a:rPr>
              <a:t>Un objectif clé de voûte</a:t>
            </a:r>
            <a:r>
              <a:rPr b="1" i="1" lang="fr-FR" sz="1800" spc="-1" strike="noStrike">
                <a:solidFill>
                  <a:srgbClr val="9bbb59"/>
                </a:solidFill>
                <a:latin typeface="Calibri"/>
              </a:rPr>
              <a:t>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Amplifier la transformation du système de santé pour garantir la qualité des réponses aux besoins et l’accessibilité globale au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6" name="Picture 2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2665440" cy="132552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3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2989080" cy="1273320"/>
          </a:xfrm>
          <a:prstGeom prst="rect">
            <a:avLst/>
          </a:prstGeom>
          <a:ln w="0">
            <a:noFill/>
          </a:ln>
        </p:spPr>
      </p:pic>
      <p:pic>
        <p:nvPicPr>
          <p:cNvPr id="2028" name="Picture 4" descr=""/>
          <p:cNvPicPr/>
          <p:nvPr/>
        </p:nvPicPr>
        <p:blipFill>
          <a:blip r:embed="rId3"/>
          <a:stretch/>
        </p:blipFill>
        <p:spPr>
          <a:xfrm>
            <a:off x="324000" y="5187960"/>
            <a:ext cx="2679480" cy="1193760"/>
          </a:xfrm>
          <a:prstGeom prst="rect">
            <a:avLst/>
          </a:prstGeom>
          <a:ln w="0">
            <a:noFill/>
          </a:ln>
        </p:spPr>
      </p:pic>
      <p:pic>
        <p:nvPicPr>
          <p:cNvPr id="2029" name="Picture 5" descr=""/>
          <p:cNvPicPr/>
          <p:nvPr/>
        </p:nvPicPr>
        <p:blipFill>
          <a:blip r:embed="rId4"/>
          <a:stretch/>
        </p:blipFill>
        <p:spPr>
          <a:xfrm>
            <a:off x="3282840" y="5327640"/>
            <a:ext cx="2778120" cy="112572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6" descr=""/>
          <p:cNvPicPr/>
          <p:nvPr/>
        </p:nvPicPr>
        <p:blipFill>
          <a:blip r:embed="rId5"/>
          <a:stretch/>
        </p:blipFill>
        <p:spPr>
          <a:xfrm>
            <a:off x="6300720" y="5119560"/>
            <a:ext cx="2685960" cy="1211400"/>
          </a:xfrm>
          <a:prstGeom prst="rect">
            <a:avLst/>
          </a:prstGeom>
          <a:ln w="0">
            <a:noFill/>
          </a:ln>
        </p:spPr>
      </p:pic>
      <p:sp>
        <p:nvSpPr>
          <p:cNvPr id="2031" name="Rectangle 14"/>
          <p:cNvSpPr/>
          <p:nvPr/>
        </p:nvSpPr>
        <p:spPr>
          <a:xfrm>
            <a:off x="7172280" y="-27000"/>
            <a:ext cx="1944720" cy="172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/>
          </p:nvPr>
        </p:nvSpPr>
        <p:spPr>
          <a:xfrm>
            <a:off x="298440" y="176652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cinq orientations stratégiques du PRS NA …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éclinées en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résultats à atteindr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indicateurs traceur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a politique régionale, dans le cadre de la démarche globale de suivi et d’évaluation du PRS NA</a:t>
            </a:r>
            <a:endParaRPr b="0" lang="en-US" sz="24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3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Les orientations stratégiqu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Méthode d’é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5" name="Picture 2" descr=""/>
          <p:cNvPicPr/>
          <p:nvPr/>
        </p:nvPicPr>
        <p:blipFill>
          <a:blip r:embed="rId1"/>
          <a:srcRect l="34063" t="44168" r="20079" b="45001"/>
          <a:stretch/>
        </p:blipFill>
        <p:spPr>
          <a:xfrm>
            <a:off x="768240" y="4896000"/>
            <a:ext cx="7485120" cy="995040"/>
          </a:xfrm>
          <a:prstGeom prst="rect">
            <a:avLst/>
          </a:prstGeom>
          <a:ln w="0">
            <a:noFill/>
          </a:ln>
        </p:spPr>
      </p:pic>
      <p:sp>
        <p:nvSpPr>
          <p:cNvPr id="2036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à coins arrondis 5"/>
          <p:cNvSpPr/>
          <p:nvPr/>
        </p:nvSpPr>
        <p:spPr>
          <a:xfrm>
            <a:off x="-452520" y="-68400"/>
            <a:ext cx="7416720" cy="15130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</a:t>
            </a:r>
            <a:br>
              <a:rPr sz="2800"/>
            </a:b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STRATÉGIE GLOBALE SUIVI ET ÉVALU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à coins arrondis 7"/>
          <p:cNvSpPr/>
          <p:nvPr/>
        </p:nvSpPr>
        <p:spPr>
          <a:xfrm>
            <a:off x="1782720" y="1863720"/>
            <a:ext cx="3630600" cy="29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ultats attendus à 5 et 1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à coins arrondis 9"/>
          <p:cNvSpPr/>
          <p:nvPr/>
        </p:nvSpPr>
        <p:spPr>
          <a:xfrm>
            <a:off x="2614680" y="2543040"/>
            <a:ext cx="1966680" cy="92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rientations stratég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à coins arrondis 40"/>
          <p:cNvSpPr/>
          <p:nvPr/>
        </p:nvSpPr>
        <p:spPr>
          <a:xfrm>
            <a:off x="2139840" y="4129200"/>
            <a:ext cx="2997360" cy="46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ésultats  attendu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à coins arrondis 82"/>
          <p:cNvSpPr/>
          <p:nvPr/>
        </p:nvSpPr>
        <p:spPr>
          <a:xfrm>
            <a:off x="2511360" y="4865760"/>
            <a:ext cx="2254320" cy="338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bjectif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à coins arrondis 84"/>
          <p:cNvSpPr/>
          <p:nvPr/>
        </p:nvSpPr>
        <p:spPr>
          <a:xfrm>
            <a:off x="2684520" y="5602320"/>
            <a:ext cx="1908000" cy="71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Modalités de mise en œuvre (Leviers, actions,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à coins arrondis 26"/>
          <p:cNvSpPr/>
          <p:nvPr/>
        </p:nvSpPr>
        <p:spPr>
          <a:xfrm>
            <a:off x="5867280" y="5140440"/>
            <a:ext cx="1378080" cy="85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proces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27"/>
          <p:cNvSpPr/>
          <p:nvPr/>
        </p:nvSpPr>
        <p:spPr>
          <a:xfrm>
            <a:off x="519120" y="234936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fa17c"/>
                </a:solidFill>
                <a:latin typeface="Calibri"/>
              </a:rPr>
              <a:t>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6" name="Connecteur droit avec flèche 45"/>
          <p:cNvCxnSpPr/>
          <p:nvPr/>
        </p:nvCxnSpPr>
        <p:spPr>
          <a:xfrm flipH="1">
            <a:off x="5044320" y="5256000"/>
            <a:ext cx="55476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047" name="Flèche droite 4"/>
          <p:cNvSpPr/>
          <p:nvPr/>
        </p:nvSpPr>
        <p:spPr>
          <a:xfrm rot="16200000">
            <a:off x="3483000" y="5029200"/>
            <a:ext cx="311040" cy="76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13"/>
          <p:cNvSpPr/>
          <p:nvPr/>
        </p:nvSpPr>
        <p:spPr>
          <a:xfrm>
            <a:off x="636480" y="4645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504d"/>
                </a:solidFill>
                <a:latin typeface="Calibri"/>
              </a:rPr>
              <a:t>S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Flèche droite 49"/>
          <p:cNvSpPr/>
          <p:nvPr/>
        </p:nvSpPr>
        <p:spPr>
          <a:xfrm rot="16200000">
            <a:off x="3391560" y="3369240"/>
            <a:ext cx="395280" cy="765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Connecteur droit 15"/>
          <p:cNvSpPr/>
          <p:nvPr/>
        </p:nvSpPr>
        <p:spPr>
          <a:xfrm flipV="1">
            <a:off x="3638520" y="4590720"/>
            <a:ext cx="0" cy="2746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Connecteur droit 56"/>
          <p:cNvSpPr/>
          <p:nvPr/>
        </p:nvSpPr>
        <p:spPr>
          <a:xfrm flipV="1">
            <a:off x="3598920" y="2155680"/>
            <a:ext cx="0" cy="387360"/>
          </a:xfrm>
          <a:prstGeom prst="line">
            <a:avLst/>
          </a:prstGeom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à coins arrondis 65"/>
          <p:cNvSpPr/>
          <p:nvPr/>
        </p:nvSpPr>
        <p:spPr>
          <a:xfrm>
            <a:off x="6156360" y="1889280"/>
            <a:ext cx="1233360" cy="98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rac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à coins arrondis 67"/>
          <p:cNvSpPr/>
          <p:nvPr/>
        </p:nvSpPr>
        <p:spPr>
          <a:xfrm>
            <a:off x="5867280" y="3900600"/>
            <a:ext cx="161316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4" name="Connecteur droit avec flèche 118"/>
          <p:cNvCxnSpPr/>
          <p:nvPr/>
        </p:nvCxnSpPr>
        <p:spPr>
          <a:xfrm flipH="1">
            <a:off x="5017320" y="2531880"/>
            <a:ext cx="996120" cy="1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cxnSp>
        <p:nvCxnSpPr>
          <p:cNvPr id="2055" name="Connecteur droit avec flèche 124"/>
          <p:cNvCxnSpPr/>
          <p:nvPr/>
        </p:nvCxnSpPr>
        <p:spPr>
          <a:xfrm flipH="1">
            <a:off x="5320800" y="4360680"/>
            <a:ext cx="38808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056" name="Connecteur droit avec flèche 125"/>
          <p:cNvCxnSpPr/>
          <p:nvPr/>
        </p:nvCxnSpPr>
        <p:spPr>
          <a:xfrm flipV="1">
            <a:off x="6536880" y="3068280"/>
            <a:ext cx="1080" cy="550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sp>
        <p:nvSpPr>
          <p:cNvPr id="2057" name="Accolade fermante 12"/>
          <p:cNvSpPr/>
          <p:nvPr/>
        </p:nvSpPr>
        <p:spPr>
          <a:xfrm>
            <a:off x="7680240" y="3705120"/>
            <a:ext cx="216000" cy="23432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2343240"/>
              <a:gd name="textAreaBottom" fmla="*/ 2337840 h 23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16200" y="10800"/>
                  <a:pt x="21600" y="10800"/>
                </a:cubicBezTo>
                <a:cubicBezTo>
                  <a:pt x="162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Accolade fermante 28"/>
          <p:cNvSpPr/>
          <p:nvPr/>
        </p:nvSpPr>
        <p:spPr>
          <a:xfrm>
            <a:off x="7581960" y="1879560"/>
            <a:ext cx="217440" cy="1266840"/>
          </a:xfrm>
          <a:custGeom>
            <a:avLst/>
            <a:gdLst>
              <a:gd name="textAreaLeft" fmla="*/ 0 w 217440"/>
              <a:gd name="textAreaRight" fmla="*/ 78480 w 217440"/>
              <a:gd name="textAreaTop" fmla="*/ 5400 h 1266840"/>
              <a:gd name="textAreaBottom" fmla="*/ 126144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5"/>
                  <a:pt x="10800" y="309"/>
                </a:cubicBezTo>
                <a:lnTo>
                  <a:pt x="10800" y="10491"/>
                </a:lnTo>
                <a:cubicBezTo>
                  <a:pt x="10800" y="10646"/>
                  <a:pt x="16200" y="10800"/>
                  <a:pt x="21600" y="10800"/>
                </a:cubicBezTo>
                <a:cubicBezTo>
                  <a:pt x="16200" y="10800"/>
                  <a:pt x="10800" y="10955"/>
                  <a:pt x="10800" y="11109"/>
                </a:cubicBezTo>
                <a:lnTo>
                  <a:pt x="10800" y="21291"/>
                </a:lnTo>
                <a:cubicBezTo>
                  <a:pt x="10800" y="2144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ZoneTexte 14"/>
          <p:cNvSpPr/>
          <p:nvPr/>
        </p:nvSpPr>
        <p:spPr>
          <a:xfrm>
            <a:off x="7896240" y="234936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É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ZoneTexte 30"/>
          <p:cNvSpPr/>
          <p:nvPr/>
        </p:nvSpPr>
        <p:spPr>
          <a:xfrm>
            <a:off x="8147160" y="470052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1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mplifier les actions sur les déterminants de santé et la promotion de la santé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Diminution de l’obésité et du surpoids dans la population de Nouvelle-Aquitaine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s :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Part des enfants obèses et en surcharge pondérale en classe de 6ème en Nouvelle-Aquitaine.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2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Promouvoir un accès équitable à la santé sur les territoires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Diminution de la mortalité prématurée évitable  au niveau de la région et de ses départements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  <a:ea typeface="Arial"/>
              </a:rPr>
              <a:t>►</a:t>
            </a: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Taux de mortalité prématuré évitable par les actions de prévention</a:t>
            </a:r>
            <a:r>
              <a:rPr b="0" lang="fr-FR" sz="1800" spc="-1" strike="noStrike">
                <a:solidFill>
                  <a:srgbClr val="1f497d"/>
                </a:solidFill>
                <a:latin typeface="Microsoft PhagsPa"/>
              </a:rPr>
              <a:t> 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7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à coins arrondis 7"/>
          <p:cNvSpPr/>
          <p:nvPr/>
        </p:nvSpPr>
        <p:spPr>
          <a:xfrm>
            <a:off x="-455760" y="-27000"/>
            <a:ext cx="7417080" cy="1511280"/>
          </a:xfrm>
          <a:prstGeom prst="roundRect">
            <a:avLst>
              <a:gd name="adj" fmla="val 16667"/>
            </a:avLst>
          </a:prstGeom>
          <a:solidFill>
            <a:srgbClr val="2fa17c"/>
          </a:solidFill>
          <a:ln w="25560">
            <a:solidFill>
              <a:srgbClr val="31b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1- SNS ET P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2"/>
          <p:cNvSpPr/>
          <p:nvPr/>
        </p:nvSpPr>
        <p:spPr>
          <a:xfrm>
            <a:off x="395280" y="1751040"/>
            <a:ext cx="85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SNS : 4 prior</a:t>
            </a:r>
            <a:r>
              <a:rPr b="0" lang="fr-FR" sz="2800" spc="-1" strike="noStrike">
                <a:solidFill>
                  <a:srgbClr val="008080"/>
                </a:solidFill>
                <a:latin typeface="Calibri"/>
              </a:rPr>
              <a:t>i</a:t>
            </a: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tés déjà déclinées au sein du projet de P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4"/>
          <p:cNvSpPr/>
          <p:nvPr/>
        </p:nvSpPr>
        <p:spPr>
          <a:xfrm>
            <a:off x="395280" y="2760840"/>
            <a:ext cx="7075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prévention et la promotion de la santé, tout au long de la vie et dans tous les mil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lutte contre les inégalités sociales et territoriales d’accès à la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nécessité d’accroître la pertinence et la qualité des 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’innovation organisationnelle, médicale, technologique ou numérique mise au service de tous et répondre aux besoins prioritaires en sant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à coins arrondis 9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’INTÉGRATION DE LA STRATÉ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ATIONAL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7" name="Groupe 15"/>
          <p:cNvGrpSpPr/>
          <p:nvPr/>
        </p:nvGrpSpPr>
        <p:grpSpPr>
          <a:xfrm>
            <a:off x="6716880" y="3825720"/>
            <a:ext cx="1498320" cy="1900440"/>
            <a:chOff x="6716880" y="3825720"/>
            <a:chExt cx="1498320" cy="1900440"/>
          </a:xfrm>
        </p:grpSpPr>
        <p:pic>
          <p:nvPicPr>
            <p:cNvPr id="2078" name="Picture 4" descr=""/>
            <p:cNvPicPr/>
            <p:nvPr/>
          </p:nvPicPr>
          <p:blipFill>
            <a:blip r:embed="rId1"/>
            <a:srcRect l="34069" t="10031" r="32970" b="6945"/>
            <a:stretch/>
          </p:blipFill>
          <p:spPr>
            <a:xfrm>
              <a:off x="6868080" y="3825720"/>
              <a:ext cx="1156320" cy="19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9" name="Rectangle 14" descr=""/>
            <p:cNvPicPr/>
            <p:nvPr/>
          </p:nvPicPr>
          <p:blipFill>
            <a:blip r:embed="rId2"/>
            <a:stretch/>
          </p:blipFill>
          <p:spPr>
            <a:xfrm>
              <a:off x="6716880" y="4205880"/>
              <a:ext cx="1498320" cy="147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0" name="Titre 1"/>
          <p:cNvGrpSpPr/>
          <p:nvPr/>
        </p:nvGrpSpPr>
        <p:grpSpPr>
          <a:xfrm>
            <a:off x="-781200" y="-49320"/>
            <a:ext cx="7688520" cy="1994040"/>
            <a:chOff x="-781200" y="-49320"/>
            <a:chExt cx="7688520" cy="1994040"/>
          </a:xfrm>
        </p:grpSpPr>
        <p:pic>
          <p:nvPicPr>
            <p:cNvPr id="2081" name="Titre 1" descr=""/>
            <p:cNvPicPr/>
            <p:nvPr/>
          </p:nvPicPr>
          <p:blipFill>
            <a:blip r:embed="rId3"/>
            <a:stretch/>
          </p:blipFill>
          <p:spPr>
            <a:xfrm>
              <a:off x="-781200" y="-49320"/>
              <a:ext cx="76885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2" name=""/>
            <p:cNvSpPr/>
            <p:nvPr/>
          </p:nvSpPr>
          <p:spPr>
            <a:xfrm>
              <a:off x="-662040" y="68400"/>
              <a:ext cx="7443720" cy="17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7172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076400"/>
                  <a:tab algn="l" pos="2152800"/>
                  <a:tab algn="l" pos="3228840"/>
                  <a:tab algn="l" pos="4305240"/>
                  <a:tab algn="l" pos="5381640"/>
                  <a:tab algn="l" pos="6458040"/>
                  <a:tab algn="l" pos="7534440"/>
                  <a:tab algn="l" pos="8610480"/>
                  <a:tab algn="l" pos="9686880"/>
                  <a:tab algn="l" pos="10763280"/>
                </a:tabLst>
              </a:pP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	</a:t>
              </a: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LE </a:t>
              </a:r>
              <a:r>
                <a:rPr b="1" lang="fr-FR" sz="3200" spc="-1" strike="noStrike">
                  <a:solidFill>
                    <a:srgbClr val="ffffff"/>
                  </a:solidFill>
                  <a:latin typeface="Microsoft PhagsPa"/>
                </a:rPr>
                <a:t>SCHÉMA RÉGIONAL DE SANTÉ : ETAT D’AVANCE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ZoneTexte 2"/>
          <p:cNvSpPr/>
          <p:nvPr/>
        </p:nvSpPr>
        <p:spPr>
          <a:xfrm>
            <a:off x="250920" y="2173320"/>
            <a:ext cx="82818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Des productions thématiques issues de la concer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Flèche droite 4"/>
          <p:cNvSpPr/>
          <p:nvPr/>
        </p:nvSpPr>
        <p:spPr>
          <a:xfrm>
            <a:off x="176364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Flèche droite 5"/>
          <p:cNvSpPr/>
          <p:nvPr/>
        </p:nvSpPr>
        <p:spPr>
          <a:xfrm>
            <a:off x="392112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ZoneTexte 7"/>
          <p:cNvSpPr/>
          <p:nvPr/>
        </p:nvSpPr>
        <p:spPr>
          <a:xfrm>
            <a:off x="250920" y="3322800"/>
            <a:ext cx="15127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31 groupes de travail / 94 réunions  / 165 parten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ZoneTexte 8"/>
          <p:cNvSpPr/>
          <p:nvPr/>
        </p:nvSpPr>
        <p:spPr>
          <a:xfrm>
            <a:off x="2365200" y="3335400"/>
            <a:ext cx="15559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Relecture, modification, restructuration des 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ZoneTexte 9"/>
          <p:cNvSpPr/>
          <p:nvPr/>
        </p:nvSpPr>
        <p:spPr>
          <a:xfrm>
            <a:off x="4643280" y="3336840"/>
            <a:ext cx="14335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Document  de travail interméd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5 axes (OS) - 25 thè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ZoneTexte 10"/>
          <p:cNvSpPr/>
          <p:nvPr/>
        </p:nvSpPr>
        <p:spPr>
          <a:xfrm>
            <a:off x="6443640" y="3336840"/>
            <a:ext cx="1771560" cy="3070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97d"/>
                </a:solidFill>
                <a:latin typeface="Calibri"/>
              </a:rPr>
              <a:t>Projet de 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Flèche droite 11"/>
          <p:cNvSpPr/>
          <p:nvPr/>
        </p:nvSpPr>
        <p:spPr>
          <a:xfrm>
            <a:off x="6076800" y="424008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Ellipse 16"/>
          <p:cNvSpPr/>
          <p:nvPr/>
        </p:nvSpPr>
        <p:spPr>
          <a:xfrm>
            <a:off x="5772240" y="3206880"/>
            <a:ext cx="2336760" cy="2303280"/>
          </a:xfrm>
          <a:prstGeom prst="ellipse">
            <a:avLst/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A0F6A-68B9-4E9A-8F69-3CDDB36E7764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169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6" name=""/>
          <p:cNvGraphicFramePr/>
          <p:nvPr/>
        </p:nvGraphicFramePr>
        <p:xfrm>
          <a:off x="1122480" y="777960"/>
          <a:ext cx="6980040" cy="6114960"/>
        </p:xfrm>
        <a:graphic>
          <a:graphicData uri="http://schemas.openxmlformats.org/drawingml/2006/table">
            <a:tbl>
              <a:tblPr/>
              <a:tblGrid>
                <a:gridCol w="6980040"/>
              </a:tblGrid>
              <a:tr h="7016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1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ATÉGIE NATIONALE DE SANTÉ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- DR VÉRONIQUE GILLERON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1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2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PPEL A PROJET ARS ANNUEL POUR DÉVELOPPER LES ACTIONS DE PRÉVENTION HORS LES MURS PAR LES ÉTABLISSEMENTS DE SAN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hristophe CAILLIEREZ (DIRECTION DE LA SANTÉ PUBLIQUE – ARS N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3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OJET RÉGIONAL DE SANTÉ NOUVELLE-AQUITAINE : SON ACTUAL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ISABELLE JAM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212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4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ES CONTRÔLES T2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MPAGNE DE CONTRÔLE 2017 – 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ÉSENTATION DE L’ÉTUDE CRIMA – DR ELISABETH CAPDENAT-RAYMO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MODALITÉS DE CONTRÔLES – DR  VÉRONIQUE GILLE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2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5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OINT SUR LES GROUPES DE TRAVAIL DU COTR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6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FIDENTIALITÉ DES DONNÉES : RAPPEL DE LA RÉG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PAUL CHA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816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7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CTUALITÉ 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AMDA, ENC, EMOIS-ADELF, JOURNÉES DU GRAND SUD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ATES DES PROCHAINES REUNIONS PLENIERES DU COTRIM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               </a:t>
            </a: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PRS Nouvelle-Aquita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          </a:t>
            </a: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 Calend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4" name=""/>
          <p:cNvGraphicFramePr/>
          <p:nvPr/>
        </p:nvGraphicFramePr>
        <p:xfrm>
          <a:off x="826920" y="2924280"/>
          <a:ext cx="7091640" cy="2131920"/>
        </p:xfrm>
        <a:graphic>
          <a:graphicData uri="http://schemas.openxmlformats.org/drawingml/2006/table">
            <a:tbl>
              <a:tblPr/>
              <a:tblGrid>
                <a:gridCol w="2376720"/>
                <a:gridCol w="471492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. – 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rsuite relecture / mise en for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uments de travail intermédiaires P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1 avant intégration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.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2 intégrant les orientations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. – Avril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tion lég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justement PRS et pub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5" name="Rectangle 1"/>
          <p:cNvSpPr/>
          <p:nvPr/>
        </p:nvSpPr>
        <p:spPr>
          <a:xfrm>
            <a:off x="409680" y="17733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Calendrier amendé d’élaboration du PRS Nouvelle-Aquit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Espace réservé de la date 2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17400" y="2943000"/>
            <a:ext cx="75693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LES CONTRÔLES T2A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32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3439A-69E1-472A-99A5-7FF042F35A46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6840" y="1312560"/>
            <a:ext cx="83329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thèmes retenus au plan régional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actes et consultations externes facturés en hospitalisation de jour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séjours avec comorbidités pour lesquels le ciblage s’est orienté sur le niveau de sévérité 3 et 4 (voire 2) (thème sanctionnable)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 codage du D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ériode contrôlée : du 1</a:t>
            </a:r>
            <a:r>
              <a:rPr b="0" lang="fr-FR" sz="2800" spc="-1" strike="noStrike" baseline="30000">
                <a:solidFill>
                  <a:srgbClr val="000066"/>
                </a:solidFill>
                <a:latin typeface="Calibri"/>
              </a:rPr>
              <a:t>er</a:t>
            </a: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 mars au 31 décembre 2016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1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D52BD-2625-43E4-84D4-5AB3D04BB6A7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252360" y="1312560"/>
            <a:ext cx="802008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17 établissements contrôlés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: 1 clinique privée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Maritim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rrèze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Gironde : 3 cliniques privées, 1 ESPIC, 1 CLCC,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ot et Garonn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yrénées Atlantiques : 1 CH, 3 cliniques privé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ux Sèvres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0C651-E715-447A-82C8-E4AF4C2B46BD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312840" y="2433600"/>
            <a:ext cx="78897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POINT SUR LES GROUPES DE TRAVAIL</a:t>
            </a:r>
            <a:br>
              <a:rPr sz="39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25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04C32-66FC-4BAB-9FCD-3E329AB1D69E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Microsoft PhagsPa"/>
              </a:rPr>
              <a:t>GROUPES DE TRAVAIL COTRIM NA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6840" y="1564920"/>
            <a:ext cx="78152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principes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Objectif : travailler sur la qualité des données et sur l’analyse du champ en fonction des thématiques défini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4 groupes, 1 par cham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2 dates « bloquées »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16 novembre et 7 décembre de 8 à 18h salle 353 (capacité 16p)  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Groupe psychiatrie 18 octobre et 22 novembre 2017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9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D217E-B9C8-45A9-A4FC-B27BA2EBB8E6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M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C450B-6EA2-49F6-8031-733A58B61A55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3" name=""/>
          <p:cNvGraphicFramePr/>
          <p:nvPr/>
        </p:nvGraphicFramePr>
        <p:xfrm>
          <a:off x="590400" y="2697120"/>
          <a:ext cx="7583760" cy="2475000"/>
        </p:xfrm>
        <a:graphic>
          <a:graphicData uri="http://schemas.openxmlformats.org/drawingml/2006/table">
            <a:tbl>
              <a:tblPr/>
              <a:tblGrid>
                <a:gridCol w="3289320"/>
                <a:gridCol w="429444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BERGEAL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Denis REVIRON - Cliniques NAVARRE - MARZET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Anne Marie RULLION PAC SOO  - CH AGEN-NERAC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etab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D8189-AE08-45E3-9A1D-C3D620562124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7" name=""/>
          <p:cNvGraphicFramePr/>
          <p:nvPr/>
        </p:nvGraphicFramePr>
        <p:xfrm>
          <a:off x="609480" y="2549520"/>
          <a:ext cx="7810560" cy="2128680"/>
        </p:xfrm>
        <a:graphic>
          <a:graphicData uri="http://schemas.openxmlformats.org/drawingml/2006/table">
            <a:tbl>
              <a:tblPr/>
              <a:tblGrid>
                <a:gridCol w="3630600"/>
                <a:gridCol w="4179960"/>
              </a:tblGrid>
              <a:tr h="5616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8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 BERGEAL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 row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Nathalie CABON-ASENCIO – DIM MSP Bagatelle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SS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A01F8-259F-43E5-A8E4-54F41D85546C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1" name=""/>
          <p:cNvGraphicFramePr/>
          <p:nvPr/>
        </p:nvGraphicFramePr>
        <p:xfrm>
          <a:off x="569880" y="2697120"/>
          <a:ext cx="8029440" cy="1847880"/>
        </p:xfrm>
        <a:graphic>
          <a:graphicData uri="http://schemas.openxmlformats.org/drawingml/2006/table">
            <a:tbl>
              <a:tblPr/>
              <a:tblGrid>
                <a:gridCol w="3343320"/>
                <a:gridCol w="468612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39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Béatrice JANVOIE-OUILLET  - GH LA ROCHELLE RE-AUNIS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étab.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-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PSYCHIAT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A09A7-D63C-4075-9E0B-7BDB08B5A30C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5" name=""/>
          <p:cNvGraphicFramePr/>
          <p:nvPr/>
        </p:nvGraphicFramePr>
        <p:xfrm>
          <a:off x="517680" y="2124000"/>
          <a:ext cx="7792920" cy="3176640"/>
        </p:xfrm>
        <a:graphic>
          <a:graphicData uri="http://schemas.openxmlformats.org/drawingml/2006/table">
            <a:tbl>
              <a:tblPr/>
              <a:tblGrid>
                <a:gridCol w="3665520"/>
                <a:gridCol w="4127400"/>
              </a:tblGrid>
              <a:tr h="531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 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orinne FREIMANN - CH LA CANDELIE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nédicte SOULA - CH des PYRENEES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ranck CHALARD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LANGLOIS-GEY 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ul FORCET  - CH CAMILLE  CLAUDEL (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Roland BOUET - CH Henri LABORI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Isabelle BLANCHARD - CH COTE BASQUE SUD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antal BERGEY - CH CHARLES PERRENS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ristine BOUVIER - ASSOCIATION RENOVATION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rénice BRECHAT-HUET -  CH de CADILLAC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6" name="Tableau 12" descr=""/>
          <p:cNvPicPr/>
          <p:nvPr/>
        </p:nvPicPr>
        <p:blipFill>
          <a:blip r:embed="rId1"/>
          <a:stretch/>
        </p:blipFill>
        <p:spPr>
          <a:xfrm>
            <a:off x="4187880" y="3333600"/>
            <a:ext cx="768240" cy="1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7" name="Objet 13"/>
          <p:cNvGraphicFramePr/>
          <p:nvPr/>
        </p:nvGraphicFramePr>
        <p:xfrm>
          <a:off x="517680" y="5753160"/>
          <a:ext cx="4330440" cy="19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8" name="Obje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7680" y="5753160"/>
                    <a:ext cx="4330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Stratégie nationale de santé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et bases de données médicales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Véronique GILLER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8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0" y="0"/>
            <a:ext cx="2443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Nationale de San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 principe d'une stratégie nationale de santé a été posé à l'article 1er de la loi du 26 janvier 2016 de "modernisation de notre système de santé", et son élaboration encadrée par un décret publié fin novembre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s domaines d’action prioritaires et des objectifs d’amélioration de la santé et de la protection sociale contre la malad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80150-CC1E-4E0A-97DF-8E3BDA091A30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Saisine Haut Conseil Santé Publi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31360" y="1312560"/>
            <a:ext cx="81550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aisine du 17 mai 20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le Secrétariat général des ministères chargés des affaires sociales (SGMCAS) et la Direction générale de la santé (DGS) ont sollicité l’avis HCSP sur la stratégie nationale de santé (SN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Conférence de presse ministre le 18 septemb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ublication des travaux sur le site HCS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hcsp.fr/explore.cgi/avisrapportsdomaine?clefr=6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hase de concertation avant publication des textes offici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tratégie nationale de santé sera déclinée en région dans le cadre de projets territoriaux 1</a:t>
            </a:r>
            <a:r>
              <a:rPr b="0" lang="fr-FR" sz="2700" spc="-1" strike="noStrike" baseline="30000">
                <a:solidFill>
                  <a:srgbClr val="00808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 semestre 20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47399-6C92-4FF3-9780-C708FFD6E8EF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révention et promotion de la santé : axe essentiel de la S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000" spc="-1" strike="noStrike">
                <a:solidFill>
                  <a:srgbClr val="008080"/>
                </a:solidFill>
                <a:latin typeface="Calibri"/>
              </a:rPr>
              <a:t>Sept principaux objectif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alimentation saine et activité physiq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maladies infectie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Lutte contre les conduites addi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e la santé ment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’un environnement et de conditions de travail favorables à la sant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Amélioration du dépis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de perte d’autonom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Espace réservé du numéro de diapositive 5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8D9D5-F48A-4212-9BE7-80C22671F7B2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d’action pour une S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360360" y="131292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Mise en œuv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ilotage par indicat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Renforcement de l’accès aux données et des    systèmes d’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 pilotage stratégique et opération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e évaluation de la S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Plan national de santé publ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08400" indent="-32436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hérence des objectifs et des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59648-0AD5-480D-AED5-70E2A4BB2406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rt 35 projet PLF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312920"/>
            <a:ext cx="80834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Cadre des expérimentations pour de nouvelles organisations (innovation organisationnel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Emergence de nouvelles organisations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. concourant à l’amélioration de la prise en charge et du parcours patient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« décloisonner la prise en charge des patients pour une séquence de soin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3CEE9-151B-4C07-B835-0AFA07881D82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4" name="Titre 1"/>
          <p:cNvGrpSpPr/>
          <p:nvPr/>
        </p:nvGrpSpPr>
        <p:grpSpPr>
          <a:xfrm>
            <a:off x="-633240" y="450720"/>
            <a:ext cx="7394400" cy="5023080"/>
            <a:chOff x="-633240" y="450720"/>
            <a:chExt cx="7394400" cy="5023080"/>
          </a:xfrm>
        </p:grpSpPr>
        <p:pic>
          <p:nvPicPr>
            <p:cNvPr id="2005" name="Titre 1" descr=""/>
            <p:cNvPicPr/>
            <p:nvPr/>
          </p:nvPicPr>
          <p:blipFill>
            <a:blip r:embed="rId1"/>
            <a:stretch/>
          </p:blipFill>
          <p:spPr>
            <a:xfrm>
              <a:off x="-633240" y="450720"/>
              <a:ext cx="7394400" cy="50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-369720" y="719280"/>
              <a:ext cx="68594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2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PROJET RÉGIONAL DE SANTÉ NOUVELLE-AQUITAINE</a:t>
              </a:r>
              <a:br>
                <a:rPr sz="43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SON ACTUALITÉ</a:t>
              </a:r>
              <a:br>
                <a:rPr sz="3600"/>
              </a:br>
              <a:br>
                <a:rPr sz="3600"/>
              </a:br>
              <a:r>
                <a:rPr b="1" lang="fr-FR" sz="2500" spc="-1" strike="noStrike">
                  <a:solidFill>
                    <a:srgbClr val="ffffff"/>
                  </a:solidFill>
                  <a:latin typeface="Microsoft PhagsPa"/>
                </a:rPr>
                <a:t>DR ISABELLE JAMET</a:t>
              </a:r>
              <a:br>
                <a:rPr sz="3600"/>
              </a:br>
              <a:br>
                <a:rPr sz="3600"/>
              </a:b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08:27:43Z</dcterms:created>
  <dc:creator>delusk</dc:creator>
  <dc:description/>
  <dc:language>en-US</dc:language>
  <cp:lastModifiedBy>Isabelle Jamet</cp:lastModifiedBy>
  <cp:lastPrinted>2017-10-17T10:33:24Z</cp:lastPrinted>
  <dcterms:modified xsi:type="dcterms:W3CDTF">2017-10-17T10:34:04Z</dcterms:modified>
  <cp:revision>58</cp:revision>
  <dc:subject/>
  <dc:title>Diapositive 1</dc:title>
</cp:coreProperties>
</file>