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1.png" ContentType="image/png"/>
  <Override PartName="/ppt/media/image29.wmf" ContentType="image/x-wmf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28.png" ContentType="image/png"/>
  <Override PartName="/ppt/media/image16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notesMasterIdLst>
    <p:notesMasterId r:id="rId50"/>
  </p:notesMasterIdLst>
  <p:sldIdLst>
    <p:sldId id="256" r:id="rId51"/>
    <p:sldId id="257" r:id="rId52"/>
    <p:sldId id="258" r:id="rId53"/>
    <p:sldId id="259" r:id="rId54"/>
    <p:sldId id="260" r:id="rId55"/>
    <p:sldId id="261" r:id="rId56"/>
    <p:sldId id="262" r:id="rId57"/>
    <p:sldId id="263" r:id="rId58"/>
    <p:sldId id="264" r:id="rId59"/>
    <p:sldId id="265" r:id="rId60"/>
    <p:sldId id="266" r:id="rId61"/>
    <p:sldId id="267" r:id="rId62"/>
    <p:sldId id="268" r:id="rId63"/>
    <p:sldId id="269" r:id="rId64"/>
    <p:sldId id="270" r:id="rId65"/>
    <p:sldId id="271" r:id="rId66"/>
    <p:sldId id="272" r:id="rId67"/>
    <p:sldId id="273" r:id="rId68"/>
    <p:sldId id="274" r:id="rId69"/>
    <p:sldId id="275" r:id="rId70"/>
    <p:sldId id="276" r:id="rId71"/>
    <p:sldId id="277" r:id="rId72"/>
    <p:sldId id="278" r:id="rId73"/>
    <p:sldId id="279" r:id="rId74"/>
    <p:sldId id="280" r:id="rId75"/>
    <p:sldId id="281" r:id="rId76"/>
    <p:sldId id="282" r:id="rId77"/>
    <p:sldId id="283" r:id="rId78"/>
    <p:sldId id="284" r:id="rId79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notesMaster" Target="notesMasters/notesMaster1.xml"/><Relationship Id="rId51" Type="http://schemas.openxmlformats.org/officeDocument/2006/relationships/slide" Target="slides/slide1.xml"/><Relationship Id="rId52" Type="http://schemas.openxmlformats.org/officeDocument/2006/relationships/slide" Target="slides/slide2.xml"/><Relationship Id="rId53" Type="http://schemas.openxmlformats.org/officeDocument/2006/relationships/slide" Target="slides/slide3.xml"/><Relationship Id="rId54" Type="http://schemas.openxmlformats.org/officeDocument/2006/relationships/slide" Target="slides/slide4.xml"/><Relationship Id="rId55" Type="http://schemas.openxmlformats.org/officeDocument/2006/relationships/slide" Target="slides/slide5.xml"/><Relationship Id="rId56" Type="http://schemas.openxmlformats.org/officeDocument/2006/relationships/slide" Target="slides/slide6.xml"/><Relationship Id="rId57" Type="http://schemas.openxmlformats.org/officeDocument/2006/relationships/slide" Target="slides/slide7.xml"/><Relationship Id="rId58" Type="http://schemas.openxmlformats.org/officeDocument/2006/relationships/slide" Target="slides/slide8.xml"/><Relationship Id="rId59" Type="http://schemas.openxmlformats.org/officeDocument/2006/relationships/slide" Target="slides/slide9.xml"/><Relationship Id="rId60" Type="http://schemas.openxmlformats.org/officeDocument/2006/relationships/slide" Target="slides/slide10.xml"/><Relationship Id="rId61" Type="http://schemas.openxmlformats.org/officeDocument/2006/relationships/slide" Target="slides/slide11.xml"/><Relationship Id="rId62" Type="http://schemas.openxmlformats.org/officeDocument/2006/relationships/slide" Target="slides/slide12.xml"/><Relationship Id="rId63" Type="http://schemas.openxmlformats.org/officeDocument/2006/relationships/slide" Target="slides/slide13.xml"/><Relationship Id="rId64" Type="http://schemas.openxmlformats.org/officeDocument/2006/relationships/slide" Target="slides/slide14.xml"/><Relationship Id="rId65" Type="http://schemas.openxmlformats.org/officeDocument/2006/relationships/slide" Target="slides/slide15.xml"/><Relationship Id="rId66" Type="http://schemas.openxmlformats.org/officeDocument/2006/relationships/slide" Target="slides/slide16.xml"/><Relationship Id="rId67" Type="http://schemas.openxmlformats.org/officeDocument/2006/relationships/slide" Target="slides/slide17.xml"/><Relationship Id="rId68" Type="http://schemas.openxmlformats.org/officeDocument/2006/relationships/slide" Target="slides/slide18.xml"/><Relationship Id="rId69" Type="http://schemas.openxmlformats.org/officeDocument/2006/relationships/slide" Target="slides/slide19.xml"/><Relationship Id="rId70" Type="http://schemas.openxmlformats.org/officeDocument/2006/relationships/slide" Target="slides/slide20.xml"/><Relationship Id="rId71" Type="http://schemas.openxmlformats.org/officeDocument/2006/relationships/slide" Target="slides/slide21.xml"/><Relationship Id="rId72" Type="http://schemas.openxmlformats.org/officeDocument/2006/relationships/slide" Target="slides/slide22.xml"/><Relationship Id="rId73" Type="http://schemas.openxmlformats.org/officeDocument/2006/relationships/slide" Target="slides/slide23.xml"/><Relationship Id="rId74" Type="http://schemas.openxmlformats.org/officeDocument/2006/relationships/slide" Target="slides/slide24.xml"/><Relationship Id="rId75" Type="http://schemas.openxmlformats.org/officeDocument/2006/relationships/slide" Target="slides/slide25.xml"/><Relationship Id="rId76" Type="http://schemas.openxmlformats.org/officeDocument/2006/relationships/slide" Target="slides/slide26.xml"/><Relationship Id="rId77" Type="http://schemas.openxmlformats.org/officeDocument/2006/relationships/slide" Target="slides/slide27.xml"/><Relationship Id="rId78" Type="http://schemas.openxmlformats.org/officeDocument/2006/relationships/slide" Target="slides/slide28.xml"/><Relationship Id="rId79" Type="http://schemas.openxmlformats.org/officeDocument/2006/relationships/slide" Target="slides/slide29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dt" idx="6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5"/>
          <p:cNvSpPr>
            <a:spLocks noGrp="1"/>
          </p:cNvSpPr>
          <p:nvPr>
            <p:ph type="ftr" idx="6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PlaceHolder 6"/>
          <p:cNvSpPr>
            <a:spLocks noGrp="1"/>
          </p:cNvSpPr>
          <p:nvPr>
            <p:ph type="sldNum" idx="69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C17D73-1AAF-4844-AE86-0F422B7E207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buClr>
                <a:srgbClr val="2fa17c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1200" spc="-1" strike="noStrike">
                <a:solidFill>
                  <a:srgbClr val="2fa17c"/>
                </a:solidFill>
                <a:latin typeface="Calibri"/>
              </a:rPr>
              <a:t>Un PRS fondé sur une approche globale de la santé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2fa17c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1200" spc="-1" strike="noStrike">
                <a:solidFill>
                  <a:srgbClr val="2fa17c"/>
                </a:solidFill>
                <a:latin typeface="Calibri"/>
              </a:rPr>
              <a:t>Un PRS resserré sur l’objectif et le résultat à atteind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2fa17c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1200" spc="-1" strike="noStrike">
                <a:solidFill>
                  <a:srgbClr val="2fa17c"/>
                </a:solidFill>
                <a:latin typeface="Calibri"/>
              </a:rPr>
              <a:t>Qui engage tous les acteurs de santé à développer davantage la transversalité entre les secteurs de la prévention, du sanitaire et du médico-social, et la coordination avec les autres politiques publiq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C364C0-0BDC-4F7C-9F7E-2640D9D0DF8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791B54-15CA-45CD-831E-B41A6F455EC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6005F0-BEE9-4EED-9742-C5FA4071D2A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FDB1DC-6F5D-436B-8B41-07965227BA3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4129CF-2F10-4CB4-ABDD-3BF3B268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A6CDFE-C271-491A-A0F5-C5C6C778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0C787B-E003-42A9-9E1D-7B490220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942ECF-9F33-491D-9475-58019671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7474CB-F197-4CF7-9BC6-E8984BB6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2FDF4F-D51A-4CBB-9ADA-DC272174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4668A7-07E1-462A-8E6F-0B2CC43E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BC901C-8926-4007-8588-E862AF0F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006550-F23C-4AB4-BFC2-1D45CF16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71AF-7866-4251-98EF-2D97BC28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524206-809A-4DC2-968A-E5A41A2D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FACED0-D7B5-4D0E-BF8D-DD00E8FE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485FAA-1C22-42C1-ADD9-8523B408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058F4A-AC6A-4B46-9A7E-7886234B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D9D92C-3125-42AF-8B98-5BE6CD06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205309-A2CF-4F14-8B82-9184FD31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100A93-8817-44CD-A9AD-67890F00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FB95D4-9527-4416-8A17-64EFC092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19B061-FDC5-4038-B1BF-7B7161DA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85DD17-0D8D-4F7A-BD61-1E042921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B76E-ED8C-473A-8050-6C4BE888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FA68C5-2CD4-4B1E-B22E-4A447A32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59000F-AA8F-4A6B-8383-61EC5F6E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D8FA58-95C2-4C07-B127-41EB52CE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CFD09D-6A36-420C-BEBC-9F3033173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E59E72-505E-49BE-8F22-DBF72C93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5BA674-CC0F-493C-AE90-BB98AE5A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CF5D18-7C1E-499E-9D65-4D731373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60BB89-1942-4220-BC4B-86D921FD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CBB92C-3F74-4968-9C36-99A3E9AA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2364CE-3047-407F-8617-0ACE25A7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1A24-5A63-4A10-BA43-C73DEE1E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2957BA-5DCA-4F68-B299-3A329E26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BE3EB7-B7AF-41D4-9F97-6C34833C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2E0772-9F91-44CE-8108-0AA01585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41169B-AEE6-4579-A0D9-BFF03E53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BECA06-E586-4507-90EA-C099A404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F10C42-C39C-40C5-88F4-601F2D3F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80AD51-8D55-44F8-99D5-5BCDF0D19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EEFD3C-ADEC-4040-BD65-26831D592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5962ED-8E7C-40F1-A22A-EDEF1E54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4BEF4D-554C-494A-983C-A30983E7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A230-BDED-46A0-80C4-19BAFF81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6BDA64-9381-4905-A34A-8E247E9C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61AE10-B7AC-4582-9238-155A7FBE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98DB8E-FDF8-4DF6-96D4-FC1E9B43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0DB8A7-B3B3-493A-9B32-90C4E97B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D4281D-10A3-47A3-A0EA-AB619EF8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0FE156-1046-4225-AD73-2FED7DF6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8C99F4-7493-41C5-BE99-3AFB1BCC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B639BF-589B-4DCE-A2BD-F093A6A4F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CC6F96-7256-432B-8C86-2100C3BE3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F57265-E473-4ECB-97A5-EB29CB51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85C9-109B-42C2-9941-4EF2F49A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1B9EC7-925A-4AE1-86FE-8E072EA5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5F262C-AF3E-4010-8130-E381F382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250E4F1-5102-49D9-AAC8-4D625CEF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06B1A2-6E13-4605-B79A-7DF0507D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E54250-B686-4986-8BD1-F19E9D93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996FD1-33C4-4E26-B329-9F42EC83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8819DEC-0EDE-4A5A-B1B0-5FCE990E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5D6F76-AE21-453A-8036-18154E80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B84B5B-E31E-4835-9DF3-DB601386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D69FC1-A3D6-4814-992C-932F2EA0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D182-CE6F-4143-884A-40FCDF84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3C07CF-73CC-4A7D-AABB-A9E0B3448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1F058D1-5FA7-41A2-AF93-6A3D1F12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815FBF-2181-4239-BE44-7026BF2F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158C4A-EC3C-4B01-AF76-4B3A9DD5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324A962-2E36-4E9F-84BB-6487FC12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DDC5639-1093-4C87-90EC-35A62367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F363DBA-ABC1-4AEF-8163-F42750F6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1A83D76-0A52-476E-AE46-DA873E83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55FC7D-DBEB-4082-A7EF-37590968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F3872B7-3A91-49BE-90E9-32B6B519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BEAC-7FC7-49C2-8ACC-8BC75D08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34D07A-ED98-4519-811A-F4BF6453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E5438B4-5023-496B-81AE-DA55B33D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B8A99A0-407D-483B-9D93-C578786D1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22B65E-33E2-4C16-8508-63B449DEC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2023EF-0649-4602-B33F-077E8F31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5FCD16-5ED3-4E83-9599-2C26359F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A5DBAE-7FE0-4CA0-9385-3B8AF44B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EA9298-5FD1-4608-AA01-CFFD3858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AF368A-4135-4FF6-B3F5-866189E8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81F45A-60E7-461C-A032-3DDCB2F2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334B-65CA-4DB7-861A-85407532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EED9B4-4151-41A8-B099-B25AC2D0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8B9B87-FFDC-4FE4-B69B-08BFCF68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3B805B-4175-4BC8-8E40-6681BB87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C72BCF-F8A1-473C-A4CA-7E6DE22A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090533-C1B2-49B2-B7BD-30FFEAEC4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127BB80-9A71-4AC0-A92B-3CA773EC7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7EB5F0B-FE5B-4D5D-9BB9-29EA1FE7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E24F910-F704-488F-8532-FE1746A4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BE2F7B2-AFA8-47A0-AAD5-29C42CC3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5F0A751-0876-476E-A08D-8B1540FF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8087-3AC3-46BA-B767-31CAB585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6E8E9B2-ACE8-4FC8-84E8-9227DCE6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D86B39C-E8CC-48B2-B796-8B6BFF37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56E35E5-8F6F-484A-838A-CE1F3FDD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61BE6E9-A5FD-4883-8DDB-1E75152E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9C03BD4-0A15-4438-B743-6AAD5407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B3B5A66-9E60-4806-9F6F-74EC1B664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CB0C9EC-7F3B-4961-AE98-AA5236AA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610CF94-7056-4749-86B0-A188C9D0C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1A120F3-5EAF-48FF-A9C2-35AD7AF8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07EC57C-B670-45AA-96F1-25ED7BD1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01BD-F787-423E-9FD2-6868BA6C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666D53C-06B2-4912-8182-BA5C543D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311AEBA-C76F-467F-BCB6-DF745C72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AC81DAB-9FA8-415E-8B91-3CF4FBF5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5318FE8-272C-43E7-9513-2047E2A2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0C22394-B313-4BFD-96F7-2A51021D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38C2680-EED4-4F42-BF41-BC558473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050FE63-906C-40A2-B9CB-D78FE06F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CD17A32-C0D9-44E8-8248-C3FAF913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E44B956-B14E-46C8-8952-20F71B8E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191DE6B-9D3D-4981-9248-817F91D9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9BB8-9EF1-47DC-BFC1-EF2511AC9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34BA715-92D1-4341-BC58-11D0FE0B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0197284-5867-4546-B952-7EBB4562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44863BB-D6F6-41B9-B6C9-7D3A4D47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D39393A-33DF-47FE-A190-E858421C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BCC7381-AFD9-4C58-BBB8-DEA361A7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E7D0E78-48F7-4AE9-A773-C7621DA3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85B4B84-9D35-47AB-9C75-34902DB5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A36B4B7-C9EA-4926-83D7-A0625D38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5D1B4C2-91E5-452A-8525-CF3A6E5D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6E3A4A6-438E-4130-A1AB-5B40E070D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B950-D7E3-4B04-9040-1B3FCD1DC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78EC77A-1330-4EEF-91D5-AE2618D9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A84E62F-3A00-4DAC-ABDD-69834077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7398904-2A80-464E-BF52-F5B78D28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472F619-14A5-44A9-B35F-0F6E9F9F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6A1417C-4734-41DC-A091-5BA3EEB3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5C0BF8F-2258-4C39-8B7F-F5B58654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00E973B-3B45-4449-9593-94A68EA2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BF3CBF1-D2C8-4F04-A89C-4A1D8944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2967A34-74BB-41D3-ACB0-7C9714B5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23AC6B7-F832-4C6D-92D6-1D1F389F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C5BC969-14A9-4716-93DA-7B97ED7B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7E7A16B-8646-49F4-AD49-D7425563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022013A-DD5D-4002-BD07-22E46F260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A43CA01-313B-4E5E-B0BD-91CE8CBEFC76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571DDEC-63B5-4A71-8819-94C1658D78CA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9C548C6-0384-4172-AEA6-2490BA2EC4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FAC2728-CBA3-41EF-A482-B7AF0C1EAEEF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90A8C4C-1667-41DC-AF8B-D5B4E84E2AAC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8E3665B-649B-4CA2-B93C-98B8956505A6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ACD8342-A990-4052-B9D6-1064828DFD7D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7309637-C614-48C0-959C-DED92E0DE086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D171E6E-70A0-4754-8097-5D05EA56BBBB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8607406-3C2D-4F1C-9F46-FE32E88F4D19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FEDD154-A3C3-43A7-9B75-56C2977CDD87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2B3EC1D-A1AF-4606-B1D8-477107CDD95E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A19555-330E-4A3D-BE49-66AAD781F17A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C730D1-2F24-4D41-82A5-A68C0D0D6808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A81574-AB64-4224-9F6F-9AB6E40AD210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9A3862-52F6-4858-B2AC-2CE570CFDB10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819424-0917-46DB-9A2D-B420150C5F3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F67799-2CFF-4B47-8E40-22DA0D37CDFF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70A89A-8FB1-49C3-B661-AE9AE9ED3335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7023EF-EFBB-44E5-8E46-9392C5F2F666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990119-4A85-4824-AA97-51140195B20C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FA2143-BA59-412E-90B2-8D805648EEF8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057415-FAF5-4C9A-A56A-2DE938FCBD7A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D24FA7-35BA-4CD3-AE7F-1F7020437C8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6980B-38E0-4E12-A17A-8BFD2D70228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D43F3-A156-4F85-846B-784885FEC8F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14DAB-CB80-447C-88F9-50CDC71A9ED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CF6C4-6DCE-4E98-9514-14B4D8EDD39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0961B-78E3-4F71-808C-1E4BC0AD5A7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3FCED-4C7A-4248-8B91-7146D5DDECD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BAE8B-6E04-45C3-99D5-A4EC1ED2A6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E4148-14EB-4946-A2C2-30BEF82C9F5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6829F-DE42-49AE-BE4C-B0B5D97527C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3EA3B-46BE-421C-A10F-84CE307C752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618C6-7DE9-42EF-BC79-0F5C8C31EB9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1CE95-67ED-4508-847B-E7D708EA0E9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45.xml"/><Relationship Id="rId6" Type="http://schemas.openxmlformats.org/officeDocument/2006/relationships/slideLayout" Target="../slideLayouts/slideLayout446.xml"/><Relationship Id="rId7" Type="http://schemas.openxmlformats.org/officeDocument/2006/relationships/slideLayout" Target="../slideLayouts/slideLayout447.xml"/><Relationship Id="rId8" Type="http://schemas.openxmlformats.org/officeDocument/2006/relationships/slideLayout" Target="../slideLayouts/slideLayout448.xml"/><Relationship Id="rId9" Type="http://schemas.openxmlformats.org/officeDocument/2006/relationships/slideLayout" Target="../slideLayouts/slideLayout449.xml"/><Relationship Id="rId10" Type="http://schemas.openxmlformats.org/officeDocument/2006/relationships/slideLayout" Target="../slideLayouts/slideLayout450.xml"/><Relationship Id="rId11" Type="http://schemas.openxmlformats.org/officeDocument/2006/relationships/slideLayout" Target="../slideLayouts/slideLayout451.xml"/><Relationship Id="rId12" Type="http://schemas.openxmlformats.org/officeDocument/2006/relationships/slideLayout" Target="../slideLayouts/slideLayout452.xml"/><Relationship Id="rId13" Type="http://schemas.openxmlformats.org/officeDocument/2006/relationships/slideLayout" Target="../slideLayouts/slideLayout453.xml"/><Relationship Id="rId14" Type="http://schemas.openxmlformats.org/officeDocument/2006/relationships/slideLayout" Target="../slideLayouts/slideLayout454.xml"/><Relationship Id="rId15" Type="http://schemas.openxmlformats.org/officeDocument/2006/relationships/slideLayout" Target="../slideLayouts/slideLayout455.xml"/><Relationship Id="rId16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57.xml"/><Relationship Id="rId6" Type="http://schemas.openxmlformats.org/officeDocument/2006/relationships/slideLayout" Target="../slideLayouts/slideLayout458.xml"/><Relationship Id="rId7" Type="http://schemas.openxmlformats.org/officeDocument/2006/relationships/slideLayout" Target="../slideLayouts/slideLayout459.xml"/><Relationship Id="rId8" Type="http://schemas.openxmlformats.org/officeDocument/2006/relationships/slideLayout" Target="../slideLayouts/slideLayout460.xml"/><Relationship Id="rId9" Type="http://schemas.openxmlformats.org/officeDocument/2006/relationships/slideLayout" Target="../slideLayouts/slideLayout461.xml"/><Relationship Id="rId10" Type="http://schemas.openxmlformats.org/officeDocument/2006/relationships/slideLayout" Target="../slideLayouts/slideLayout462.xml"/><Relationship Id="rId11" Type="http://schemas.openxmlformats.org/officeDocument/2006/relationships/slideLayout" Target="../slideLayouts/slideLayout463.xml"/><Relationship Id="rId12" Type="http://schemas.openxmlformats.org/officeDocument/2006/relationships/slideLayout" Target="../slideLayouts/slideLayout464.xml"/><Relationship Id="rId13" Type="http://schemas.openxmlformats.org/officeDocument/2006/relationships/slideLayout" Target="../slideLayouts/slideLayout465.xml"/><Relationship Id="rId14" Type="http://schemas.openxmlformats.org/officeDocument/2006/relationships/slideLayout" Target="../slideLayouts/slideLayout466.xml"/><Relationship Id="rId15" Type="http://schemas.openxmlformats.org/officeDocument/2006/relationships/slideLayout" Target="../slideLayouts/slideLayout467.xml"/><Relationship Id="rId16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81.xml"/><Relationship Id="rId6" Type="http://schemas.openxmlformats.org/officeDocument/2006/relationships/slideLayout" Target="../slideLayouts/slideLayout482.xml"/><Relationship Id="rId7" Type="http://schemas.openxmlformats.org/officeDocument/2006/relationships/slideLayout" Target="../slideLayouts/slideLayout483.xml"/><Relationship Id="rId8" Type="http://schemas.openxmlformats.org/officeDocument/2006/relationships/slideLayout" Target="../slideLayouts/slideLayout484.xml"/><Relationship Id="rId9" Type="http://schemas.openxmlformats.org/officeDocument/2006/relationships/slideLayout" Target="../slideLayouts/slideLayout485.xml"/><Relationship Id="rId10" Type="http://schemas.openxmlformats.org/officeDocument/2006/relationships/slideLayout" Target="../slideLayouts/slideLayout486.xml"/><Relationship Id="rId11" Type="http://schemas.openxmlformats.org/officeDocument/2006/relationships/slideLayout" Target="../slideLayouts/slideLayout487.xml"/><Relationship Id="rId12" Type="http://schemas.openxmlformats.org/officeDocument/2006/relationships/slideLayout" Target="../slideLayouts/slideLayout488.xml"/><Relationship Id="rId13" Type="http://schemas.openxmlformats.org/officeDocument/2006/relationships/slideLayout" Target="../slideLayouts/slideLayout489.xml"/><Relationship Id="rId14" Type="http://schemas.openxmlformats.org/officeDocument/2006/relationships/slideLayout" Target="../slideLayouts/slideLayout490.xml"/><Relationship Id="rId15" Type="http://schemas.openxmlformats.org/officeDocument/2006/relationships/slideLayout" Target="../slideLayouts/slideLayout491.xml"/><Relationship Id="rId16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93.xml"/><Relationship Id="rId6" Type="http://schemas.openxmlformats.org/officeDocument/2006/relationships/slideLayout" Target="../slideLayouts/slideLayout494.xml"/><Relationship Id="rId7" Type="http://schemas.openxmlformats.org/officeDocument/2006/relationships/slideLayout" Target="../slideLayouts/slideLayout495.xml"/><Relationship Id="rId8" Type="http://schemas.openxmlformats.org/officeDocument/2006/relationships/slideLayout" Target="../slideLayouts/slideLayout496.xml"/><Relationship Id="rId9" Type="http://schemas.openxmlformats.org/officeDocument/2006/relationships/slideLayout" Target="../slideLayouts/slideLayout497.xml"/><Relationship Id="rId10" Type="http://schemas.openxmlformats.org/officeDocument/2006/relationships/slideLayout" Target="../slideLayouts/slideLayout498.xml"/><Relationship Id="rId11" Type="http://schemas.openxmlformats.org/officeDocument/2006/relationships/slideLayout" Target="../slideLayouts/slideLayout499.xml"/><Relationship Id="rId12" Type="http://schemas.openxmlformats.org/officeDocument/2006/relationships/slideLayout" Target="../slideLayouts/slideLayout500.xml"/><Relationship Id="rId13" Type="http://schemas.openxmlformats.org/officeDocument/2006/relationships/slideLayout" Target="../slideLayouts/slideLayout501.xml"/><Relationship Id="rId14" Type="http://schemas.openxmlformats.org/officeDocument/2006/relationships/slideLayout" Target="../slideLayouts/slideLayout502.xml"/><Relationship Id="rId15" Type="http://schemas.openxmlformats.org/officeDocument/2006/relationships/slideLayout" Target="../slideLayouts/slideLayout503.xml"/><Relationship Id="rId16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05.xml"/><Relationship Id="rId6" Type="http://schemas.openxmlformats.org/officeDocument/2006/relationships/slideLayout" Target="../slideLayouts/slideLayout506.xml"/><Relationship Id="rId7" Type="http://schemas.openxmlformats.org/officeDocument/2006/relationships/slideLayout" Target="../slideLayouts/slideLayout507.xml"/><Relationship Id="rId8" Type="http://schemas.openxmlformats.org/officeDocument/2006/relationships/slideLayout" Target="../slideLayouts/slideLayout508.xml"/><Relationship Id="rId9" Type="http://schemas.openxmlformats.org/officeDocument/2006/relationships/slideLayout" Target="../slideLayouts/slideLayout509.xml"/><Relationship Id="rId10" Type="http://schemas.openxmlformats.org/officeDocument/2006/relationships/slideLayout" Target="../slideLayouts/slideLayout510.xml"/><Relationship Id="rId11" Type="http://schemas.openxmlformats.org/officeDocument/2006/relationships/slideLayout" Target="../slideLayouts/slideLayout511.xml"/><Relationship Id="rId12" Type="http://schemas.openxmlformats.org/officeDocument/2006/relationships/slideLayout" Target="../slideLayouts/slideLayout512.xml"/><Relationship Id="rId13" Type="http://schemas.openxmlformats.org/officeDocument/2006/relationships/slideLayout" Target="../slideLayouts/slideLayout513.xml"/><Relationship Id="rId14" Type="http://schemas.openxmlformats.org/officeDocument/2006/relationships/slideLayout" Target="../slideLayouts/slideLayout514.xml"/><Relationship Id="rId15" Type="http://schemas.openxmlformats.org/officeDocument/2006/relationships/slideLayout" Target="../slideLayouts/slideLayout515.xml"/><Relationship Id="rId16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17.xml"/><Relationship Id="rId6" Type="http://schemas.openxmlformats.org/officeDocument/2006/relationships/slideLayout" Target="../slideLayouts/slideLayout518.xml"/><Relationship Id="rId7" Type="http://schemas.openxmlformats.org/officeDocument/2006/relationships/slideLayout" Target="../slideLayouts/slideLayout519.xml"/><Relationship Id="rId8" Type="http://schemas.openxmlformats.org/officeDocument/2006/relationships/slideLayout" Target="../slideLayouts/slideLayout520.xml"/><Relationship Id="rId9" Type="http://schemas.openxmlformats.org/officeDocument/2006/relationships/slideLayout" Target="../slideLayouts/slideLayout521.xml"/><Relationship Id="rId10" Type="http://schemas.openxmlformats.org/officeDocument/2006/relationships/slideLayout" Target="../slideLayouts/slideLayout522.xml"/><Relationship Id="rId11" Type="http://schemas.openxmlformats.org/officeDocument/2006/relationships/slideLayout" Target="../slideLayouts/slideLayout523.xml"/><Relationship Id="rId12" Type="http://schemas.openxmlformats.org/officeDocument/2006/relationships/slideLayout" Target="../slideLayouts/slideLayout524.xml"/><Relationship Id="rId13" Type="http://schemas.openxmlformats.org/officeDocument/2006/relationships/slideLayout" Target="../slideLayouts/slideLayout525.xml"/><Relationship Id="rId14" Type="http://schemas.openxmlformats.org/officeDocument/2006/relationships/slideLayout" Target="../slideLayouts/slideLayout526.xml"/><Relationship Id="rId15" Type="http://schemas.openxmlformats.org/officeDocument/2006/relationships/slideLayout" Target="../slideLayouts/slideLayout527.xml"/><Relationship Id="rId16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29.xml"/><Relationship Id="rId6" Type="http://schemas.openxmlformats.org/officeDocument/2006/relationships/slideLayout" Target="../slideLayouts/slideLayout530.xml"/><Relationship Id="rId7" Type="http://schemas.openxmlformats.org/officeDocument/2006/relationships/slideLayout" Target="../slideLayouts/slideLayout531.xml"/><Relationship Id="rId8" Type="http://schemas.openxmlformats.org/officeDocument/2006/relationships/slideLayout" Target="../slideLayouts/slideLayout532.xml"/><Relationship Id="rId9" Type="http://schemas.openxmlformats.org/officeDocument/2006/relationships/slideLayout" Target="../slideLayouts/slideLayout533.xml"/><Relationship Id="rId10" Type="http://schemas.openxmlformats.org/officeDocument/2006/relationships/slideLayout" Target="../slideLayouts/slideLayout534.xml"/><Relationship Id="rId11" Type="http://schemas.openxmlformats.org/officeDocument/2006/relationships/slideLayout" Target="../slideLayouts/slideLayout535.xml"/><Relationship Id="rId12" Type="http://schemas.openxmlformats.org/officeDocument/2006/relationships/slideLayout" Target="../slideLayouts/slideLayout536.xml"/><Relationship Id="rId13" Type="http://schemas.openxmlformats.org/officeDocument/2006/relationships/slideLayout" Target="../slideLayouts/slideLayout537.xml"/><Relationship Id="rId14" Type="http://schemas.openxmlformats.org/officeDocument/2006/relationships/slideLayout" Target="../slideLayouts/slideLayout538.xml"/><Relationship Id="rId15" Type="http://schemas.openxmlformats.org/officeDocument/2006/relationships/slideLayout" Target="../slideLayouts/slideLayout539.xml"/><Relationship Id="rId16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41.xml"/><Relationship Id="rId6" Type="http://schemas.openxmlformats.org/officeDocument/2006/relationships/slideLayout" Target="../slideLayouts/slideLayout542.xml"/><Relationship Id="rId7" Type="http://schemas.openxmlformats.org/officeDocument/2006/relationships/slideLayout" Target="../slideLayouts/slideLayout543.xml"/><Relationship Id="rId8" Type="http://schemas.openxmlformats.org/officeDocument/2006/relationships/slideLayout" Target="../slideLayouts/slideLayout544.xml"/><Relationship Id="rId9" Type="http://schemas.openxmlformats.org/officeDocument/2006/relationships/slideLayout" Target="../slideLayouts/slideLayout545.xml"/><Relationship Id="rId10" Type="http://schemas.openxmlformats.org/officeDocument/2006/relationships/slideLayout" Target="../slideLayouts/slideLayout546.xml"/><Relationship Id="rId11" Type="http://schemas.openxmlformats.org/officeDocument/2006/relationships/slideLayout" Target="../slideLayouts/slideLayout547.xml"/><Relationship Id="rId12" Type="http://schemas.openxmlformats.org/officeDocument/2006/relationships/slideLayout" Target="../slideLayouts/slideLayout548.xml"/><Relationship Id="rId13" Type="http://schemas.openxmlformats.org/officeDocument/2006/relationships/slideLayout" Target="../slideLayouts/slideLayout549.xml"/><Relationship Id="rId14" Type="http://schemas.openxmlformats.org/officeDocument/2006/relationships/slideLayout" Target="../slideLayouts/slideLayout550.xml"/><Relationship Id="rId15" Type="http://schemas.openxmlformats.org/officeDocument/2006/relationships/slideLayout" Target="../slideLayouts/slideLayout551.xml"/><Relationship Id="rId16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65.xml"/><Relationship Id="rId6" Type="http://schemas.openxmlformats.org/officeDocument/2006/relationships/slideLayout" Target="../slideLayouts/slideLayout566.xml"/><Relationship Id="rId7" Type="http://schemas.openxmlformats.org/officeDocument/2006/relationships/slideLayout" Target="../slideLayouts/slideLayout567.xml"/><Relationship Id="rId8" Type="http://schemas.openxmlformats.org/officeDocument/2006/relationships/slideLayout" Target="../slideLayouts/slideLayout568.xml"/><Relationship Id="rId9" Type="http://schemas.openxmlformats.org/officeDocument/2006/relationships/slideLayout" Target="../slideLayouts/slideLayout569.xml"/><Relationship Id="rId10" Type="http://schemas.openxmlformats.org/officeDocument/2006/relationships/slideLayout" Target="../slideLayouts/slideLayout570.xml"/><Relationship Id="rId11" Type="http://schemas.openxmlformats.org/officeDocument/2006/relationships/slideLayout" Target="../slideLayouts/slideLayout571.xml"/><Relationship Id="rId12" Type="http://schemas.openxmlformats.org/officeDocument/2006/relationships/slideLayout" Target="../slideLayouts/slideLayout572.xml"/><Relationship Id="rId13" Type="http://schemas.openxmlformats.org/officeDocument/2006/relationships/slideLayout" Target="../slideLayouts/slideLayout573.xml"/><Relationship Id="rId14" Type="http://schemas.openxmlformats.org/officeDocument/2006/relationships/slideLayout" Target="../slideLayouts/slideLayout574.xml"/><Relationship Id="rId15" Type="http://schemas.openxmlformats.org/officeDocument/2006/relationships/slideLayout" Target="../slideLayouts/slideLayout575.xml"/><Relationship Id="rId16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35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359" name="Image 5" descr=""/>
          <p:cNvPicPr/>
          <p:nvPr/>
        </p:nvPicPr>
        <p:blipFill>
          <a:blip r:embed="rId4"/>
          <a:stretch/>
        </p:blipFill>
        <p:spPr>
          <a:xfrm>
            <a:off x="3468600" y="396720"/>
            <a:ext cx="2206800" cy="21592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7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40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401" name="Image 5" descr=""/>
          <p:cNvPicPr/>
          <p:nvPr/>
        </p:nvPicPr>
        <p:blipFill>
          <a:blip r:embed="rId4"/>
          <a:stretch/>
        </p:blipFill>
        <p:spPr>
          <a:xfrm>
            <a:off x="7421400" y="189000"/>
            <a:ext cx="1471680" cy="14396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8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44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443" name="Image 5" descr=""/>
          <p:cNvPicPr/>
          <p:nvPr/>
        </p:nvPicPr>
        <p:blipFill>
          <a:blip r:embed="rId4"/>
          <a:stretch/>
        </p:blipFill>
        <p:spPr>
          <a:xfrm>
            <a:off x="3395520" y="404640"/>
            <a:ext cx="2352960" cy="216072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9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48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485" name="Image 5" descr=""/>
          <p:cNvPicPr/>
          <p:nvPr/>
        </p:nvPicPr>
        <p:blipFill>
          <a:blip r:embed="rId4"/>
          <a:stretch/>
        </p:blipFill>
        <p:spPr>
          <a:xfrm>
            <a:off x="7380360" y="189000"/>
            <a:ext cx="1566720" cy="143964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10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52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527" name="Image 5" descr=""/>
          <p:cNvPicPr/>
          <p:nvPr/>
        </p:nvPicPr>
        <p:blipFill>
          <a:blip r:embed="rId4"/>
          <a:stretch/>
        </p:blipFill>
        <p:spPr>
          <a:xfrm>
            <a:off x="3444840" y="404640"/>
            <a:ext cx="2254320" cy="216072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11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56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569" name="Image 5" descr=""/>
          <p:cNvPicPr/>
          <p:nvPr/>
        </p:nvPicPr>
        <p:blipFill>
          <a:blip r:embed="rId4"/>
          <a:stretch/>
        </p:blipFill>
        <p:spPr>
          <a:xfrm>
            <a:off x="7419960" y="216000"/>
            <a:ext cx="1503360" cy="143964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12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61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611" name="Image 5" descr=""/>
          <p:cNvPicPr/>
          <p:nvPr/>
        </p:nvPicPr>
        <p:blipFill>
          <a:blip r:embed="rId4"/>
          <a:stretch/>
        </p:blipFill>
        <p:spPr>
          <a:xfrm>
            <a:off x="3506760" y="404640"/>
            <a:ext cx="2130480" cy="216072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13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65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653" name="Image 5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420920" cy="14396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14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69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695" name="Image 5" descr=""/>
          <p:cNvPicPr/>
          <p:nvPr/>
        </p:nvPicPr>
        <p:blipFill>
          <a:blip r:embed="rId4"/>
          <a:stretch/>
        </p:blipFill>
        <p:spPr>
          <a:xfrm>
            <a:off x="3613320" y="404640"/>
            <a:ext cx="1930320" cy="216072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dt" idx="15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73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737" name="Image 5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287360" cy="1439640"/>
          </a:xfrm>
          <a:prstGeom prst="rect">
            <a:avLst/>
          </a:prstGeom>
          <a:ln w="0">
            <a:noFill/>
          </a:ln>
        </p:spPr>
      </p:pic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16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pic>
        <p:nvPicPr>
          <p:cNvPr id="38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39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77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17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6375BB-A0AC-4ECA-8CD8-EFC3F707472B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122DE6-D3A1-4886-BAC6-AA8DE8163E00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1D4D27-A349-454C-BCB3-DE8D8C392982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B18840-45C7-43FA-8E98-D1048673CE1F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52962D-0908-4910-BE2C-DDE8AD418E4D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5BD725-E75E-48FF-B3B0-BC0CFC51CEB0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CA3891-9942-4C53-875F-A7F0CD8F6B89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FE176B-6F88-4CFB-B7C4-3AAEF0CCA614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7EAB5D-9F41-4619-A8C3-8791569A657C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5C23-1724-45B5-B7C9-2DAA9015F3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C35EDF-52A0-496E-954A-D70D5FFC4D82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ftr" idx="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EFF485-AFEC-48F0-918C-573D84F4B576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Image 6" descr=""/>
          <p:cNvPicPr/>
          <p:nvPr/>
        </p:nvPicPr>
        <p:blipFill>
          <a:blip r:embed="rId2"/>
          <a:stretch/>
        </p:blipFill>
        <p:spPr>
          <a:xfrm>
            <a:off x="7421400" y="189000"/>
            <a:ext cx="1471680" cy="1439640"/>
          </a:xfrm>
          <a:prstGeom prst="rect">
            <a:avLst/>
          </a:prstGeom>
          <a:ln w="0">
            <a:noFill/>
          </a:ln>
        </p:spPr>
      </p:pic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 type="dt" idx="51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400" spc="-1" strike="noStrike">
                <a:solidFill>
                  <a:srgbClr val="2fa17c"/>
                </a:solidFill>
                <a:latin typeface="Microsoft PhagsP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1"/>
          <p:cNvSpPr/>
          <p:nvPr/>
        </p:nvSpPr>
        <p:spPr>
          <a:xfrm>
            <a:off x="0" y="2233440"/>
            <a:ext cx="8186760" cy="24260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0" name="Picture 4" descr="I:\DIRECTION_GENERALE\COMMUNICATION\COM INTERNE\REFORME_TERRITORIALE\COM_EXTERNE\Diapo_ecran_accueil\logo_ARS_ALPC.jpg"/>
          <p:cNvPicPr/>
          <p:nvPr/>
        </p:nvPicPr>
        <p:blipFill>
          <a:blip r:embed="rId2"/>
          <a:stretch/>
        </p:blipFill>
        <p:spPr>
          <a:xfrm>
            <a:off x="203040" y="155520"/>
            <a:ext cx="2332080" cy="14986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2" descr="I:\DIRECTION_GENERALE\COMMUNICATION\COM INTERNE\REFORME_TERRITORIALE\COM_EXTERNE\Signature_mail\img_signature_mail_2.jpg"/>
          <p:cNvPicPr/>
          <p:nvPr/>
        </p:nvPicPr>
        <p:blipFill>
          <a:blip r:embed="rId3"/>
          <a:stretch/>
        </p:blipFill>
        <p:spPr>
          <a:xfrm>
            <a:off x="2535120" y="636480"/>
            <a:ext cx="6337440" cy="52416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3" descr="I:\DIRECTION_GENERALE\COMMUNICATION\COM INTERNE\REFORME_TERRITORIALE\COM_EXTERNE\Diapo_ecran_accueil\visuel_ALPC.jpg"/>
          <p:cNvPicPr/>
          <p:nvPr/>
        </p:nvPicPr>
        <p:blipFill>
          <a:blip r:embed="rId4"/>
          <a:stretch/>
        </p:blipFill>
        <p:spPr>
          <a:xfrm>
            <a:off x="6622920" y="5427720"/>
            <a:ext cx="2521080" cy="1430280"/>
          </a:xfrm>
          <a:prstGeom prst="rect">
            <a:avLst/>
          </a:prstGeom>
          <a:ln w="0">
            <a:noFill/>
          </a:ln>
        </p:spPr>
      </p:pic>
      <p:sp>
        <p:nvSpPr>
          <p:cNvPr id="1313" name="PlaceHolder 1"/>
          <p:cNvSpPr>
            <a:spLocks noGrp="1"/>
          </p:cNvSpPr>
          <p:nvPr>
            <p:ph type="dt" idx="52"/>
          </p:nvPr>
        </p:nvSpPr>
        <p:spPr>
          <a:xfrm>
            <a:off x="202680" y="6330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1"/>
          <p:cNvSpPr/>
          <p:nvPr/>
        </p:nvSpPr>
        <p:spPr>
          <a:xfrm>
            <a:off x="0" y="0"/>
            <a:ext cx="8686800" cy="11239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1" name="Picture 2" descr="I:\DIRECTION_GENERALE\COMMUNICATION\COM INTERNE\REFORME_TERRITORIALE\Outils_enligne_intranet\modele_diaporama\img_ars.jpg"/>
          <p:cNvPicPr/>
          <p:nvPr/>
        </p:nvPicPr>
        <p:blipFill>
          <a:blip r:embed="rId2"/>
          <a:stretch/>
        </p:blipFill>
        <p:spPr>
          <a:xfrm>
            <a:off x="0" y="5996160"/>
            <a:ext cx="1488960" cy="861840"/>
          </a:xfrm>
          <a:prstGeom prst="rect">
            <a:avLst/>
          </a:prstGeom>
          <a:ln w="0">
            <a:noFill/>
          </a:ln>
        </p:spPr>
      </p:pic>
      <p:sp>
        <p:nvSpPr>
          <p:cNvPr id="1352" name="PlaceHolder 1"/>
          <p:cNvSpPr>
            <a:spLocks noGrp="1"/>
          </p:cNvSpPr>
          <p:nvPr>
            <p:ph type="sldNum" idx="53"/>
          </p:nvPr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600" spc="-1" strike="noStrike">
                <a:solidFill>
                  <a:srgbClr val="00808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9B7273-FAED-4066-8DB7-08EFD7AA8307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39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391" name="Picture 2" descr=""/>
          <p:cNvPicPr/>
          <p:nvPr/>
        </p:nvPicPr>
        <p:blipFill>
          <a:blip r:embed="rId4"/>
          <a:stretch/>
        </p:blipFill>
        <p:spPr>
          <a:xfrm>
            <a:off x="6804000" y="549360"/>
            <a:ext cx="2160720" cy="1436760"/>
          </a:xfrm>
          <a:prstGeom prst="rect">
            <a:avLst/>
          </a:prstGeom>
          <a:ln w="0">
            <a:noFill/>
          </a:ln>
        </p:spPr>
      </p:pic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0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431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 type="dt" idx="54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47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473" name="Image 5" descr=""/>
          <p:cNvPicPr/>
          <p:nvPr/>
        </p:nvPicPr>
        <p:blipFill>
          <a:blip r:embed="rId4"/>
          <a:stretch/>
        </p:blipFill>
        <p:spPr>
          <a:xfrm>
            <a:off x="3468600" y="396720"/>
            <a:ext cx="2206800" cy="2159280"/>
          </a:xfrm>
          <a:prstGeom prst="rect">
            <a:avLst/>
          </a:prstGeom>
          <a:ln w="0">
            <a:noFill/>
          </a:ln>
        </p:spPr>
      </p:pic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 type="dt" idx="55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1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515" name="Image 5" descr=""/>
          <p:cNvPicPr/>
          <p:nvPr/>
        </p:nvPicPr>
        <p:blipFill>
          <a:blip r:embed="rId4"/>
          <a:stretch/>
        </p:blipFill>
        <p:spPr>
          <a:xfrm>
            <a:off x="7421400" y="189000"/>
            <a:ext cx="1471680" cy="1439640"/>
          </a:xfrm>
          <a:prstGeom prst="rect">
            <a:avLst/>
          </a:prstGeom>
          <a:ln w="0">
            <a:noFill/>
          </a:ln>
        </p:spPr>
      </p:pic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 type="dt" idx="56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5"/>
    <p:sldLayoutId id="2147484131" r:id="rId6"/>
    <p:sldLayoutId id="2147484132" r:id="rId7"/>
    <p:sldLayoutId id="2147484133" r:id="rId8"/>
    <p:sldLayoutId id="2147484134" r:id="rId9"/>
    <p:sldLayoutId id="2147484135" r:id="rId10"/>
    <p:sldLayoutId id="2147484136" r:id="rId11"/>
    <p:sldLayoutId id="2147484137" r:id="rId12"/>
    <p:sldLayoutId id="2147484138" r:id="rId13"/>
    <p:sldLayoutId id="2147484139" r:id="rId14"/>
    <p:sldLayoutId id="2147484140" r:id="rId15"/>
    <p:sldLayoutId id="2147484141" r:id="rId16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5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557" name="Image 5" descr=""/>
          <p:cNvPicPr/>
          <p:nvPr/>
        </p:nvPicPr>
        <p:blipFill>
          <a:blip r:embed="rId4"/>
          <a:stretch/>
        </p:blipFill>
        <p:spPr>
          <a:xfrm>
            <a:off x="3395520" y="404640"/>
            <a:ext cx="2352960" cy="2160720"/>
          </a:xfrm>
          <a:prstGeom prst="rect">
            <a:avLst/>
          </a:prstGeom>
          <a:ln w="0">
            <a:noFill/>
          </a:ln>
        </p:spPr>
      </p:pic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57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5"/>
    <p:sldLayoutId id="2147484144" r:id="rId6"/>
    <p:sldLayoutId id="2147484145" r:id="rId7"/>
    <p:sldLayoutId id="2147484146" r:id="rId8"/>
    <p:sldLayoutId id="2147484147" r:id="rId9"/>
    <p:sldLayoutId id="2147484148" r:id="rId10"/>
    <p:sldLayoutId id="2147484149" r:id="rId11"/>
    <p:sldLayoutId id="2147484150" r:id="rId12"/>
    <p:sldLayoutId id="2147484151" r:id="rId13"/>
    <p:sldLayoutId id="2147484152" r:id="rId14"/>
    <p:sldLayoutId id="2147484153" r:id="rId15"/>
    <p:sldLayoutId id="2147484154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9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599" name="Image 5" descr=""/>
          <p:cNvPicPr/>
          <p:nvPr/>
        </p:nvPicPr>
        <p:blipFill>
          <a:blip r:embed="rId4"/>
          <a:stretch/>
        </p:blipFill>
        <p:spPr>
          <a:xfrm>
            <a:off x="7380360" y="189000"/>
            <a:ext cx="1566720" cy="1439640"/>
          </a:xfrm>
          <a:prstGeom prst="rect">
            <a:avLst/>
          </a:prstGeom>
          <a:ln w="0">
            <a:noFill/>
          </a:ln>
        </p:spPr>
      </p:pic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 type="dt" idx="58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64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641" name="Image 5" descr=""/>
          <p:cNvPicPr/>
          <p:nvPr/>
        </p:nvPicPr>
        <p:blipFill>
          <a:blip r:embed="rId4"/>
          <a:stretch/>
        </p:blipFill>
        <p:spPr>
          <a:xfrm>
            <a:off x="3444840" y="404640"/>
            <a:ext cx="2254320" cy="2160720"/>
          </a:xfrm>
          <a:prstGeom prst="rect">
            <a:avLst/>
          </a:prstGeom>
          <a:ln w="0">
            <a:noFill/>
          </a:ln>
        </p:spPr>
      </p:pic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 type="dt" idx="59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5"/>
    <p:sldLayoutId id="2147484170" r:id="rId6"/>
    <p:sldLayoutId id="2147484171" r:id="rId7"/>
    <p:sldLayoutId id="2147484172" r:id="rId8"/>
    <p:sldLayoutId id="2147484173" r:id="rId9"/>
    <p:sldLayoutId id="2147484174" r:id="rId10"/>
    <p:sldLayoutId id="2147484175" r:id="rId11"/>
    <p:sldLayoutId id="2147484176" r:id="rId12"/>
    <p:sldLayoutId id="2147484177" r:id="rId13"/>
    <p:sldLayoutId id="2147484178" r:id="rId14"/>
    <p:sldLayoutId id="2147484179" r:id="rId15"/>
    <p:sldLayoutId id="2147484180" r:id="rId16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68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683" name="Image 5" descr=""/>
          <p:cNvPicPr/>
          <p:nvPr/>
        </p:nvPicPr>
        <p:blipFill>
          <a:blip r:embed="rId4"/>
          <a:stretch/>
        </p:blipFill>
        <p:spPr>
          <a:xfrm>
            <a:off x="7419960" y="216000"/>
            <a:ext cx="1503360" cy="1439640"/>
          </a:xfrm>
          <a:prstGeom prst="rect">
            <a:avLst/>
          </a:prstGeom>
          <a:ln w="0">
            <a:noFill/>
          </a:ln>
        </p:spPr>
      </p:pic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 type="dt" idx="60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5"/>
    <p:sldLayoutId id="2147484183" r:id="rId6"/>
    <p:sldLayoutId id="2147484184" r:id="rId7"/>
    <p:sldLayoutId id="2147484185" r:id="rId8"/>
    <p:sldLayoutId id="2147484186" r:id="rId9"/>
    <p:sldLayoutId id="2147484187" r:id="rId10"/>
    <p:sldLayoutId id="2147484188" r:id="rId11"/>
    <p:sldLayoutId id="2147484189" r:id="rId12"/>
    <p:sldLayoutId id="2147484190" r:id="rId13"/>
    <p:sldLayoutId id="2147484191" r:id="rId14"/>
    <p:sldLayoutId id="2147484192" r:id="rId15"/>
    <p:sldLayoutId id="2147484193" r:id="rId16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72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725" name="Image 5" descr=""/>
          <p:cNvPicPr/>
          <p:nvPr/>
        </p:nvPicPr>
        <p:blipFill>
          <a:blip r:embed="rId4"/>
          <a:stretch/>
        </p:blipFill>
        <p:spPr>
          <a:xfrm>
            <a:off x="3506760" y="404640"/>
            <a:ext cx="2130480" cy="2160720"/>
          </a:xfrm>
          <a:prstGeom prst="rect">
            <a:avLst/>
          </a:prstGeom>
          <a:ln w="0">
            <a:noFill/>
          </a:ln>
        </p:spPr>
      </p:pic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 type="dt" idx="61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5"/>
    <p:sldLayoutId id="2147484196" r:id="rId6"/>
    <p:sldLayoutId id="2147484197" r:id="rId7"/>
    <p:sldLayoutId id="2147484198" r:id="rId8"/>
    <p:sldLayoutId id="2147484199" r:id="rId9"/>
    <p:sldLayoutId id="2147484200" r:id="rId10"/>
    <p:sldLayoutId id="2147484201" r:id="rId11"/>
    <p:sldLayoutId id="2147484202" r:id="rId12"/>
    <p:sldLayoutId id="2147484203" r:id="rId13"/>
    <p:sldLayoutId id="2147484204" r:id="rId14"/>
    <p:sldLayoutId id="2147484205" r:id="rId15"/>
    <p:sldLayoutId id="2147484206" r:id="rId16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76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767" name="Image 5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420920" cy="1439640"/>
          </a:xfrm>
          <a:prstGeom prst="rect">
            <a:avLst/>
          </a:prstGeom>
          <a:ln w="0">
            <a:noFill/>
          </a:ln>
        </p:spPr>
      </p:pic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 type="dt" idx="62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5"/>
    <p:sldLayoutId id="2147484209" r:id="rId6"/>
    <p:sldLayoutId id="2147484210" r:id="rId7"/>
    <p:sldLayoutId id="2147484211" r:id="rId8"/>
    <p:sldLayoutId id="2147484212" r:id="rId9"/>
    <p:sldLayoutId id="2147484213" r:id="rId10"/>
    <p:sldLayoutId id="2147484214" r:id="rId11"/>
    <p:sldLayoutId id="2147484215" r:id="rId12"/>
    <p:sldLayoutId id="2147484216" r:id="rId13"/>
    <p:sldLayoutId id="2147484217" r:id="rId14"/>
    <p:sldLayoutId id="2147484218" r:id="rId15"/>
    <p:sldLayoutId id="2147484219" r:id="rId16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80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809" name="Image 5" descr=""/>
          <p:cNvPicPr/>
          <p:nvPr/>
        </p:nvPicPr>
        <p:blipFill>
          <a:blip r:embed="rId4"/>
          <a:stretch/>
        </p:blipFill>
        <p:spPr>
          <a:xfrm>
            <a:off x="3613320" y="404640"/>
            <a:ext cx="1930320" cy="2160720"/>
          </a:xfrm>
          <a:prstGeom prst="rect">
            <a:avLst/>
          </a:prstGeom>
          <a:ln w="0">
            <a:noFill/>
          </a:ln>
        </p:spPr>
      </p:pic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 type="dt" idx="63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5"/>
    <p:sldLayoutId id="2147484222" r:id="rId6"/>
    <p:sldLayoutId id="2147484223" r:id="rId7"/>
    <p:sldLayoutId id="2147484224" r:id="rId8"/>
    <p:sldLayoutId id="2147484225" r:id="rId9"/>
    <p:sldLayoutId id="2147484226" r:id="rId10"/>
    <p:sldLayoutId id="2147484227" r:id="rId11"/>
    <p:sldLayoutId id="2147484228" r:id="rId12"/>
    <p:sldLayoutId id="2147484229" r:id="rId13"/>
    <p:sldLayoutId id="2147484230" r:id="rId14"/>
    <p:sldLayoutId id="2147484231" r:id="rId15"/>
    <p:sldLayoutId id="2147484232" r:id="rId16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85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851" name="Image 5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287360" cy="1439640"/>
          </a:xfrm>
          <a:prstGeom prst="rect">
            <a:avLst/>
          </a:prstGeom>
          <a:ln w="0">
            <a:noFill/>
          </a:ln>
        </p:spPr>
      </p:pic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 type="dt" idx="64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5"/>
    <p:sldLayoutId id="2147484235" r:id="rId6"/>
    <p:sldLayoutId id="2147484236" r:id="rId7"/>
    <p:sldLayoutId id="2147484237" r:id="rId8"/>
    <p:sldLayoutId id="2147484238" r:id="rId9"/>
    <p:sldLayoutId id="2147484239" r:id="rId10"/>
    <p:sldLayoutId id="2147484240" r:id="rId11"/>
    <p:sldLayoutId id="2147484241" r:id="rId12"/>
    <p:sldLayoutId id="2147484242" r:id="rId13"/>
    <p:sldLayoutId id="2147484243" r:id="rId14"/>
    <p:sldLayoutId id="2147484244" r:id="rId15"/>
    <p:sldLayoutId id="2147484245" r:id="rId16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89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 type="dt" idx="65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2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933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1934" name="Rectangle 5"/>
          <p:cNvSpPr/>
          <p:nvPr/>
        </p:nvSpPr>
        <p:spPr>
          <a:xfrm>
            <a:off x="0" y="0"/>
            <a:ext cx="8686800" cy="11239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5" name="Picture 2" descr="I:\DIRECTION_GENERALE\COMMUNICATION\COM INTERNE\REFORME_TERRITORIALE\Outils_enligne_intranet\modele_diaporama\img_ars.jpg"/>
          <p:cNvPicPr/>
          <p:nvPr/>
        </p:nvPicPr>
        <p:blipFill>
          <a:blip r:embed="rId4"/>
          <a:stretch/>
        </p:blipFill>
        <p:spPr>
          <a:xfrm>
            <a:off x="0" y="5996160"/>
            <a:ext cx="1488960" cy="861840"/>
          </a:xfrm>
          <a:prstGeom prst="rect">
            <a:avLst/>
          </a:prstGeom>
          <a:ln w="0">
            <a:noFill/>
          </a:ln>
        </p:spPr>
      </p:pic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 type="sldNum" idx="66"/>
          </p:nvPr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600" spc="-1" strike="noStrike">
                <a:solidFill>
                  <a:srgbClr val="00808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0C3C56-00A5-42B9-B0DD-C496892033DC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5"/>
    <p:sldLayoutId id="2147484261" r:id="rId6"/>
    <p:sldLayoutId id="2147484262" r:id="rId7"/>
    <p:sldLayoutId id="2147484263" r:id="rId8"/>
    <p:sldLayoutId id="2147484264" r:id="rId9"/>
    <p:sldLayoutId id="2147484265" r:id="rId10"/>
    <p:sldLayoutId id="2147484266" r:id="rId11"/>
    <p:sldLayoutId id="2147484267" r:id="rId12"/>
    <p:sldLayoutId id="2147484268" r:id="rId13"/>
    <p:sldLayoutId id="2147484269" r:id="rId14"/>
    <p:sldLayoutId id="2147484270" r:id="rId15"/>
    <p:sldLayoutId id="2147484271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pic>
        <p:nvPicPr>
          <p:cNvPr id="15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"/>
          <p:cNvSpPr/>
          <p:nvPr/>
        </p:nvSpPr>
        <p:spPr>
          <a:xfrm>
            <a:off x="0" y="2233440"/>
            <a:ext cx="8186760" cy="24260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I:\DIRECTION_GENERALE\COMMUNICATION\COM INTERNE\REFORME_TERRITORIALE\COM_EXTERNE\Diapo_ecran_accueil\logo_ARS_ALPC.jpg"/>
          <p:cNvPicPr/>
          <p:nvPr/>
        </p:nvPicPr>
        <p:blipFill>
          <a:blip r:embed="rId2"/>
          <a:stretch/>
        </p:blipFill>
        <p:spPr>
          <a:xfrm>
            <a:off x="203040" y="155520"/>
            <a:ext cx="2332080" cy="1498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I:\DIRECTION_GENERALE\COMMUNICATION\COM INTERNE\REFORME_TERRITORIALE\COM_EXTERNE\Signature_mail\img_signature_mail_2.jpg"/>
          <p:cNvPicPr/>
          <p:nvPr/>
        </p:nvPicPr>
        <p:blipFill>
          <a:blip r:embed="rId3"/>
          <a:stretch/>
        </p:blipFill>
        <p:spPr>
          <a:xfrm>
            <a:off x="2535120" y="636480"/>
            <a:ext cx="6337440" cy="5241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I:\DIRECTION_GENERALE\COMMUNICATION\COM INTERNE\REFORME_TERRITORIALE\COM_EXTERNE\Diapo_ecran_accueil\visuel_ALPC.jpg"/>
          <p:cNvPicPr/>
          <p:nvPr/>
        </p:nvPicPr>
        <p:blipFill>
          <a:blip r:embed="rId4"/>
          <a:stretch/>
        </p:blipFill>
        <p:spPr>
          <a:xfrm>
            <a:off x="6622920" y="5427720"/>
            <a:ext cx="2521080" cy="14302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dt" idx="4"/>
          </p:nvPr>
        </p:nvSpPr>
        <p:spPr>
          <a:xfrm>
            <a:off x="202680" y="6330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0" y="0"/>
            <a:ext cx="8686800" cy="11239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I:\DIRECTION_GENERALE\COMMUNICATION\COM INTERNE\REFORME_TERRITORIALE\Outils_enligne_intranet\modele_diaporama\img_ars.jpg"/>
          <p:cNvPicPr/>
          <p:nvPr/>
        </p:nvPicPr>
        <p:blipFill>
          <a:blip r:embed="rId2"/>
          <a:stretch/>
        </p:blipFill>
        <p:spPr>
          <a:xfrm>
            <a:off x="0" y="5996160"/>
            <a:ext cx="1488960" cy="86184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ldNum" idx="5"/>
          </p:nvPr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600" spc="-1" strike="noStrike">
                <a:solidFill>
                  <a:srgbClr val="00808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8C6449-3C26-44D3-810D-E0067F342552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27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4"/>
          <a:stretch/>
        </p:blipFill>
        <p:spPr>
          <a:xfrm>
            <a:off x="6804000" y="549360"/>
            <a:ext cx="2160720" cy="14367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317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6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hcsp/explore.cgi/avisrapportsdomaine?clefr=627" TargetMode="External"/><Relationship Id="rId2" Type="http://schemas.openxmlformats.org/officeDocument/2006/relationships/slideLayout" Target="../slideLayouts/slideLayout3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92280" y="2943000"/>
            <a:ext cx="749448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COTRIM NOUVELLE-AQUITAINE</a:t>
            </a:r>
            <a:br>
              <a:rPr sz="4400"/>
            </a:b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17 octobre 20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3" name="Picture 4" descr="I:\DIRECTION_GENERALE\COMMUNICATION\COM EXTERNE\EVENEMENTIELS EXTERNES\2015\Journee_qualite_securite_18112015\Invitation\ARS_NA_LOGO_RVB.jpg"/>
          <p:cNvPicPr/>
          <p:nvPr/>
        </p:nvPicPr>
        <p:blipFill>
          <a:blip r:embed="rId1"/>
          <a:stretch/>
        </p:blipFill>
        <p:spPr>
          <a:xfrm>
            <a:off x="103320" y="0"/>
            <a:ext cx="24429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7" name="Picture 3" descr=""/>
          <p:cNvPicPr/>
          <p:nvPr/>
        </p:nvPicPr>
        <p:blipFill>
          <a:blip r:embed="rId1"/>
          <a:srcRect l="33437" t="31668" r="16815" b="25001"/>
          <a:stretch/>
        </p:blipFill>
        <p:spPr>
          <a:xfrm>
            <a:off x="3240000" y="4068720"/>
            <a:ext cx="4578480" cy="2243160"/>
          </a:xfrm>
          <a:prstGeom prst="rect">
            <a:avLst/>
          </a:prstGeom>
          <a:ln w="0">
            <a:noFill/>
          </a:ln>
        </p:spPr>
      </p:pic>
      <p:sp>
        <p:nvSpPr>
          <p:cNvPr id="2008" name=""/>
          <p:cNvSpPr txBox="1"/>
          <p:nvPr/>
        </p:nvSpPr>
        <p:spPr>
          <a:xfrm>
            <a:off x="468360" y="169992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icrosoft PhagsPa"/>
              </a:rPr>
              <a:t>Le PRS c’est </a:t>
            </a:r>
            <a:r>
              <a:rPr b="1" lang="fr-FR" sz="3200" spc="-1" strike="noStrike">
                <a:solidFill>
                  <a:srgbClr val="000000"/>
                </a:solidFill>
                <a:latin typeface="Microsoft PhagsP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42472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000066"/>
                </a:solidFill>
                <a:latin typeface="Calibri"/>
              </a:rPr>
              <a:t>Cadre d’orientation stratégique (COS) </a:t>
            </a: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pour 10 ans : 2018-202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000066"/>
                </a:solidFill>
                <a:latin typeface="Calibri"/>
              </a:rPr>
              <a:t>Schéma régional de santé (SRS) </a:t>
            </a: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pour 5 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000066"/>
                </a:solidFill>
                <a:latin typeface="Calibri"/>
              </a:rPr>
              <a:t>Programme régional d’accès à la prévention et soins (PRAPS) </a:t>
            </a: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pour 5 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Rectangle à coins arrondis 6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32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NOUVEAU CADRE, NOUVEAUX ENJE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"/>
          <p:cNvSpPr txBox="1"/>
          <p:nvPr/>
        </p:nvSpPr>
        <p:spPr>
          <a:xfrm>
            <a:off x="539640" y="224784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Microsoft PhagsPa"/>
              </a:rPr>
              <a:t>Ce qui change avec le PRS de 2</a:t>
            </a:r>
            <a:r>
              <a:rPr b="1" lang="fr-FR" sz="2700" spc="-1" strike="noStrike" baseline="30000">
                <a:solidFill>
                  <a:srgbClr val="000000"/>
                </a:solidFill>
                <a:latin typeface="Microsoft PhagsPa"/>
              </a:rPr>
              <a:t>ème</a:t>
            </a:r>
            <a:r>
              <a:rPr b="1" lang="fr-FR" sz="2700" spc="-1" strike="noStrike">
                <a:solidFill>
                  <a:srgbClr val="000000"/>
                </a:solidFill>
                <a:latin typeface="Microsoft PhagsPa"/>
              </a:rPr>
              <a:t> génération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1"/>
          <p:cNvSpPr>
            <a:spLocks noGrp="1"/>
          </p:cNvSpPr>
          <p:nvPr>
            <p:ph/>
          </p:nvPr>
        </p:nvSpPr>
        <p:spPr>
          <a:xfrm>
            <a:off x="611280" y="3068280"/>
            <a:ext cx="8424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13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2b3990"/>
                </a:solidFill>
                <a:latin typeface="Calibri"/>
              </a:rPr>
              <a:t>COS plus prospectif</a:t>
            </a: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2b3990"/>
                </a:solidFill>
                <a:latin typeface="Calibri"/>
              </a:rPr>
              <a:t>SRS uniqu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Alors que l’ancien PRS comportait 3 schémas (prévention, organisation des soins, organisation médico-socia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Construit autour d’</a:t>
            </a:r>
            <a:r>
              <a:rPr b="1" lang="fr-FR" sz="2200" spc="-1" strike="noStrike">
                <a:solidFill>
                  <a:srgbClr val="2b3990"/>
                </a:solidFill>
                <a:latin typeface="Calibri"/>
              </a:rPr>
              <a:t>objectifs opérationnels</a:t>
            </a: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, lisibles et évalu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Rectangle à coins arrondis 6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32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NOUVEAU CADRE, NOUVEAUX ENJE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"/>
          <p:cNvSpPr txBox="1"/>
          <p:nvPr/>
        </p:nvSpPr>
        <p:spPr>
          <a:xfrm>
            <a:off x="324000" y="22050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icrosoft PhagsPa"/>
              </a:rPr>
              <a:t>L’élaboration du PRS Nouvelle-Aquitaine s’appuie s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1"/>
          <p:cNvSpPr>
            <a:spLocks noGrp="1"/>
          </p:cNvSpPr>
          <p:nvPr>
            <p:ph/>
          </p:nvPr>
        </p:nvSpPr>
        <p:spPr>
          <a:xfrm>
            <a:off x="399600" y="2565360"/>
            <a:ext cx="842508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Un diagnostic régional</a:t>
            </a:r>
            <a:r>
              <a:rPr b="0" lang="fr-FR" sz="2400" spc="-1" strike="noStrike">
                <a:solidFill>
                  <a:srgbClr val="2b3990"/>
                </a:solidFill>
                <a:latin typeface="Calibri"/>
              </a:rPr>
              <a:t>, décliné en 12 volets territoriaux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b3990"/>
                </a:solidFill>
                <a:latin typeface="Calibri"/>
              </a:rPr>
              <a:t>(territoires de démocratie sanitair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Un bilan des PRS des anciennes ré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Aquitaine, Limousin et Poitou-Char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Une évaluation du PRS Poitou-Char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Rectangle à coins arrondis 5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Titre 1"/>
          <p:cNvSpPr/>
          <p:nvPr/>
        </p:nvSpPr>
        <p:spPr>
          <a:xfrm>
            <a:off x="395280" y="115920"/>
            <a:ext cx="8229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</a:t>
            </a:r>
            <a:r>
              <a:rPr b="1" lang="fr-FR" sz="2800" spc="-1" strike="noStrike">
                <a:solidFill>
                  <a:srgbClr val="ffffff"/>
                </a:solidFill>
                <a:latin typeface="Microsoft PhagsP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DÉMARCHE : ÉLABORATION</a:t>
            </a:r>
            <a:br>
              <a:rPr sz="15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0" name="Picture 2" descr=""/>
          <p:cNvPicPr/>
          <p:nvPr/>
        </p:nvPicPr>
        <p:blipFill>
          <a:blip r:embed="rId1"/>
          <a:stretch/>
        </p:blipFill>
        <p:spPr>
          <a:xfrm>
            <a:off x="6012000" y="5230800"/>
            <a:ext cx="1655640" cy="1617840"/>
          </a:xfrm>
          <a:prstGeom prst="rect">
            <a:avLst/>
          </a:prstGeom>
          <a:ln w="0">
            <a:noFill/>
          </a:ln>
        </p:spPr>
      </p:pic>
      <p:pic>
        <p:nvPicPr>
          <p:cNvPr id="2021" name="Picture 2" descr=""/>
          <p:cNvPicPr/>
          <p:nvPr/>
        </p:nvPicPr>
        <p:blipFill>
          <a:blip r:embed="rId2"/>
          <a:stretch/>
        </p:blipFill>
        <p:spPr>
          <a:xfrm rot="467400">
            <a:off x="6746400" y="3472920"/>
            <a:ext cx="1190880" cy="168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"/>
          <p:cNvSpPr txBox="1"/>
          <p:nvPr/>
        </p:nvSpPr>
        <p:spPr>
          <a:xfrm>
            <a:off x="23976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icrosoft PhagsPa"/>
              </a:rPr>
              <a:t>Le cadre d’orientation stratégique (le C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Rectangle à coins arrondis 7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20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LES ORIENTATIONS STRATÉG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Rectangle 1"/>
          <p:cNvSpPr/>
          <p:nvPr/>
        </p:nvSpPr>
        <p:spPr>
          <a:xfrm>
            <a:off x="3924360" y="2975040"/>
            <a:ext cx="3971880" cy="154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8080"/>
                </a:solidFill>
                <a:latin typeface="Calibri"/>
              </a:rPr>
              <a:t>Un objectif clé de voûte</a:t>
            </a:r>
            <a:r>
              <a:rPr b="1" i="1" lang="fr-FR" sz="1800" spc="-1" strike="noStrike">
                <a:solidFill>
                  <a:srgbClr val="9bbb59"/>
                </a:solidFill>
                <a:latin typeface="Calibri"/>
              </a:rPr>
              <a:t>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Amplifier la transformation du système de santé pour garantir la qualité des réponses aux besoins et l’accessibilité globale au système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6" name="Picture 2" descr=""/>
          <p:cNvPicPr/>
          <p:nvPr/>
        </p:nvPicPr>
        <p:blipFill>
          <a:blip r:embed="rId1"/>
          <a:stretch/>
        </p:blipFill>
        <p:spPr>
          <a:xfrm>
            <a:off x="250920" y="3789360"/>
            <a:ext cx="2665440" cy="1325520"/>
          </a:xfrm>
          <a:prstGeom prst="rect">
            <a:avLst/>
          </a:prstGeom>
          <a:ln w="0">
            <a:noFill/>
          </a:ln>
        </p:spPr>
      </p:pic>
      <p:pic>
        <p:nvPicPr>
          <p:cNvPr id="2027" name="Picture 3" descr=""/>
          <p:cNvPicPr/>
          <p:nvPr/>
        </p:nvPicPr>
        <p:blipFill>
          <a:blip r:embed="rId2"/>
          <a:stretch/>
        </p:blipFill>
        <p:spPr>
          <a:xfrm>
            <a:off x="250920" y="2492280"/>
            <a:ext cx="2989080" cy="1273320"/>
          </a:xfrm>
          <a:prstGeom prst="rect">
            <a:avLst/>
          </a:prstGeom>
          <a:ln w="0">
            <a:noFill/>
          </a:ln>
        </p:spPr>
      </p:pic>
      <p:pic>
        <p:nvPicPr>
          <p:cNvPr id="2028" name="Picture 4" descr=""/>
          <p:cNvPicPr/>
          <p:nvPr/>
        </p:nvPicPr>
        <p:blipFill>
          <a:blip r:embed="rId3"/>
          <a:stretch/>
        </p:blipFill>
        <p:spPr>
          <a:xfrm>
            <a:off x="324000" y="5187960"/>
            <a:ext cx="2679480" cy="1193760"/>
          </a:xfrm>
          <a:prstGeom prst="rect">
            <a:avLst/>
          </a:prstGeom>
          <a:ln w="0">
            <a:noFill/>
          </a:ln>
        </p:spPr>
      </p:pic>
      <p:pic>
        <p:nvPicPr>
          <p:cNvPr id="2029" name="Picture 5" descr=""/>
          <p:cNvPicPr/>
          <p:nvPr/>
        </p:nvPicPr>
        <p:blipFill>
          <a:blip r:embed="rId4"/>
          <a:stretch/>
        </p:blipFill>
        <p:spPr>
          <a:xfrm>
            <a:off x="3282840" y="5327640"/>
            <a:ext cx="2778120" cy="112572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6" descr=""/>
          <p:cNvPicPr/>
          <p:nvPr/>
        </p:nvPicPr>
        <p:blipFill>
          <a:blip r:embed="rId5"/>
          <a:stretch/>
        </p:blipFill>
        <p:spPr>
          <a:xfrm>
            <a:off x="6300720" y="5119560"/>
            <a:ext cx="2685960" cy="1211400"/>
          </a:xfrm>
          <a:prstGeom prst="rect">
            <a:avLst/>
          </a:prstGeom>
          <a:ln w="0">
            <a:noFill/>
          </a:ln>
        </p:spPr>
      </p:pic>
      <p:sp>
        <p:nvSpPr>
          <p:cNvPr id="2031" name="Rectangle 14"/>
          <p:cNvSpPr/>
          <p:nvPr/>
        </p:nvSpPr>
        <p:spPr>
          <a:xfrm>
            <a:off x="7172280" y="-27000"/>
            <a:ext cx="1944720" cy="172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/>
          </p:nvPr>
        </p:nvSpPr>
        <p:spPr>
          <a:xfrm>
            <a:off x="298440" y="1766520"/>
            <a:ext cx="842472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es cinq orientations stratégiques du PRS NA … 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éclinées en</a:t>
            </a:r>
            <a:r>
              <a:rPr b="1" lang="fr-FR" sz="2400" spc="-1" strike="noStrike">
                <a:solidFill>
                  <a:srgbClr val="2fa17c"/>
                </a:solidFill>
                <a:latin typeface="Calibri"/>
              </a:rPr>
              <a:t> </a:t>
            </a:r>
            <a:r>
              <a:rPr b="1" lang="fr-FR" sz="2400" spc="-1" strike="noStrike" u="sng">
                <a:solidFill>
                  <a:srgbClr val="008080"/>
                </a:solidFill>
                <a:uFillTx/>
                <a:latin typeface="Calibri"/>
              </a:rPr>
              <a:t>résultats à atteindr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et</a:t>
            </a:r>
            <a:r>
              <a:rPr b="1" lang="fr-FR" sz="2400" spc="-1" strike="noStrike">
                <a:solidFill>
                  <a:srgbClr val="2fa17c"/>
                </a:solidFill>
                <a:latin typeface="Calibri"/>
              </a:rPr>
              <a:t> </a:t>
            </a:r>
            <a:r>
              <a:rPr b="1" lang="fr-FR" sz="2400" spc="-1" strike="noStrike" u="sng">
                <a:solidFill>
                  <a:srgbClr val="008080"/>
                </a:solidFill>
                <a:uFillTx/>
                <a:latin typeface="Calibri"/>
              </a:rPr>
              <a:t>indicateurs traceur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e la politique régionale, dans le cadre de la démarche globale de suivi et d’évaluation du PRS NA</a:t>
            </a:r>
            <a:endParaRPr b="0" lang="en-US" sz="24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033" name="Rectangle à coins arrondis 5"/>
          <p:cNvSpPr/>
          <p:nvPr/>
        </p:nvSpPr>
        <p:spPr>
          <a:xfrm>
            <a:off x="-468360" y="-27000"/>
            <a:ext cx="7632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Les orientations stratégiqu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Méthode d’é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5" name="Picture 2" descr=""/>
          <p:cNvPicPr/>
          <p:nvPr/>
        </p:nvPicPr>
        <p:blipFill>
          <a:blip r:embed="rId1"/>
          <a:srcRect l="34063" t="44168" r="20079" b="45001"/>
          <a:stretch/>
        </p:blipFill>
        <p:spPr>
          <a:xfrm>
            <a:off x="768240" y="4896000"/>
            <a:ext cx="7485120" cy="995040"/>
          </a:xfrm>
          <a:prstGeom prst="rect">
            <a:avLst/>
          </a:prstGeom>
          <a:ln w="0">
            <a:noFill/>
          </a:ln>
        </p:spPr>
      </p:pic>
      <p:sp>
        <p:nvSpPr>
          <p:cNvPr id="2036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à coins arrondis 5"/>
          <p:cNvSpPr/>
          <p:nvPr/>
        </p:nvSpPr>
        <p:spPr>
          <a:xfrm>
            <a:off x="-452520" y="-68400"/>
            <a:ext cx="7416720" cy="15130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1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</a:t>
            </a:r>
            <a:br>
              <a:rPr sz="2800"/>
            </a:br>
            <a:r>
              <a:rPr b="1" lang="fr-FR" sz="2400" spc="-1" strike="noStrike">
                <a:solidFill>
                  <a:srgbClr val="ffffff"/>
                </a:solidFill>
                <a:latin typeface="Microsoft PhagsPa"/>
              </a:rPr>
              <a:t>STRATÉGIE GLOBALE SUIVI ET ÉVALU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Rectangle à coins arrondis 7"/>
          <p:cNvSpPr/>
          <p:nvPr/>
        </p:nvSpPr>
        <p:spPr>
          <a:xfrm>
            <a:off x="1782720" y="1863720"/>
            <a:ext cx="3630600" cy="29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ésultats attendus à 5 et 1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Rectangle à coins arrondis 9"/>
          <p:cNvSpPr/>
          <p:nvPr/>
        </p:nvSpPr>
        <p:spPr>
          <a:xfrm>
            <a:off x="2614680" y="2543040"/>
            <a:ext cx="1966680" cy="92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Orientations stratég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Rectangle à coins arrondis 40"/>
          <p:cNvSpPr/>
          <p:nvPr/>
        </p:nvSpPr>
        <p:spPr>
          <a:xfrm>
            <a:off x="2139840" y="4129200"/>
            <a:ext cx="2997360" cy="46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Résultats  attendus spécif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Rectangle à coins arrondis 82"/>
          <p:cNvSpPr/>
          <p:nvPr/>
        </p:nvSpPr>
        <p:spPr>
          <a:xfrm>
            <a:off x="2511360" y="4865760"/>
            <a:ext cx="2254320" cy="338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Objectifs Spécif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Rectangle à coins arrondis 84"/>
          <p:cNvSpPr/>
          <p:nvPr/>
        </p:nvSpPr>
        <p:spPr>
          <a:xfrm>
            <a:off x="2684520" y="5602320"/>
            <a:ext cx="1908000" cy="716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Modalités de mise en œuvre (Leviers, actions, et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Rectangle à coins arrondis 26"/>
          <p:cNvSpPr/>
          <p:nvPr/>
        </p:nvSpPr>
        <p:spPr>
          <a:xfrm>
            <a:off x="5867280" y="5140440"/>
            <a:ext cx="1378080" cy="855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Indicate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de proces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Rectangle 27"/>
          <p:cNvSpPr/>
          <p:nvPr/>
        </p:nvSpPr>
        <p:spPr>
          <a:xfrm>
            <a:off x="519120" y="2349360"/>
            <a:ext cx="10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fa17c"/>
                </a:solidFill>
                <a:latin typeface="Calibri"/>
              </a:rPr>
              <a:t>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6" name="Connecteur droit avec flèche 45"/>
          <p:cNvCxnSpPr/>
          <p:nvPr/>
        </p:nvCxnSpPr>
        <p:spPr>
          <a:xfrm flipH="1">
            <a:off x="5044320" y="5256000"/>
            <a:ext cx="55476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047" name="Flèche droite 4"/>
          <p:cNvSpPr/>
          <p:nvPr/>
        </p:nvSpPr>
        <p:spPr>
          <a:xfrm rot="16200000">
            <a:off x="3483000" y="5029200"/>
            <a:ext cx="311040" cy="765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Rectangle 13"/>
          <p:cNvSpPr/>
          <p:nvPr/>
        </p:nvSpPr>
        <p:spPr>
          <a:xfrm>
            <a:off x="636480" y="46450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0504d"/>
                </a:solidFill>
                <a:latin typeface="Calibri"/>
              </a:rPr>
              <a:t>S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Flèche droite 49"/>
          <p:cNvSpPr/>
          <p:nvPr/>
        </p:nvSpPr>
        <p:spPr>
          <a:xfrm rot="16200000">
            <a:off x="3391560" y="3369240"/>
            <a:ext cx="395280" cy="765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Connecteur droit 15"/>
          <p:cNvSpPr/>
          <p:nvPr/>
        </p:nvSpPr>
        <p:spPr>
          <a:xfrm flipV="1">
            <a:off x="3638520" y="4590720"/>
            <a:ext cx="0" cy="2746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Connecteur droit 56"/>
          <p:cNvSpPr/>
          <p:nvPr/>
        </p:nvSpPr>
        <p:spPr>
          <a:xfrm flipV="1">
            <a:off x="3598920" y="2155680"/>
            <a:ext cx="0" cy="387360"/>
          </a:xfrm>
          <a:prstGeom prst="line">
            <a:avLst/>
          </a:prstGeom>
          <a:ln w="3816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Rectangle à coins arrondis 65"/>
          <p:cNvSpPr/>
          <p:nvPr/>
        </p:nvSpPr>
        <p:spPr>
          <a:xfrm>
            <a:off x="6156360" y="1889280"/>
            <a:ext cx="1233360" cy="982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Indicateu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rac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Rectangle à coins arrondis 67"/>
          <p:cNvSpPr/>
          <p:nvPr/>
        </p:nvSpPr>
        <p:spPr>
          <a:xfrm>
            <a:off x="5867280" y="3900600"/>
            <a:ext cx="161316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Indicate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De résult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4" name="Connecteur droit avec flèche 118"/>
          <p:cNvCxnSpPr/>
          <p:nvPr/>
        </p:nvCxnSpPr>
        <p:spPr>
          <a:xfrm flipH="1">
            <a:off x="5017320" y="2531880"/>
            <a:ext cx="996120" cy="1080"/>
          </a:xfrm>
          <a:prstGeom prst="straightConnector1">
            <a:avLst/>
          </a:prstGeom>
          <a:ln w="38160">
            <a:solidFill>
              <a:srgbClr val="2fa17c"/>
            </a:solidFill>
            <a:miter/>
            <a:tailEnd len="med" type="arrow" w="med"/>
          </a:ln>
        </p:spPr>
      </p:cxnSp>
      <p:cxnSp>
        <p:nvCxnSpPr>
          <p:cNvPr id="2055" name="Connecteur droit avec flèche 124"/>
          <p:cNvCxnSpPr/>
          <p:nvPr/>
        </p:nvCxnSpPr>
        <p:spPr>
          <a:xfrm flipH="1">
            <a:off x="5320800" y="4360680"/>
            <a:ext cx="38808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2056" name="Connecteur droit avec flèche 125"/>
          <p:cNvCxnSpPr/>
          <p:nvPr/>
        </p:nvCxnSpPr>
        <p:spPr>
          <a:xfrm flipV="1">
            <a:off x="6536880" y="3068280"/>
            <a:ext cx="1080" cy="550080"/>
          </a:xfrm>
          <a:prstGeom prst="straightConnector1">
            <a:avLst/>
          </a:prstGeom>
          <a:ln w="38160">
            <a:solidFill>
              <a:srgbClr val="2fa17c"/>
            </a:solidFill>
            <a:miter/>
            <a:tailEnd len="med" type="arrow" w="med"/>
          </a:ln>
        </p:spPr>
      </p:cxnSp>
      <p:sp>
        <p:nvSpPr>
          <p:cNvPr id="2057" name="Accolade fermante 12"/>
          <p:cNvSpPr/>
          <p:nvPr/>
        </p:nvSpPr>
        <p:spPr>
          <a:xfrm>
            <a:off x="7680240" y="3705120"/>
            <a:ext cx="216000" cy="2343240"/>
          </a:xfrm>
          <a:custGeom>
            <a:avLst/>
            <a:gdLst>
              <a:gd name="textAreaLeft" fmla="*/ 0 w 216000"/>
              <a:gd name="textAreaRight" fmla="*/ 78120 w 216000"/>
              <a:gd name="textAreaTop" fmla="*/ 5400 h 2343240"/>
              <a:gd name="textAreaBottom" fmla="*/ 2337840 h 234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3"/>
                  <a:pt x="10800" y="166"/>
                </a:cubicBezTo>
                <a:lnTo>
                  <a:pt x="10800" y="10634"/>
                </a:lnTo>
                <a:cubicBezTo>
                  <a:pt x="10800" y="10717"/>
                  <a:pt x="16200" y="10800"/>
                  <a:pt x="21600" y="10800"/>
                </a:cubicBezTo>
                <a:cubicBezTo>
                  <a:pt x="16200" y="10800"/>
                  <a:pt x="10800" y="10883"/>
                  <a:pt x="10800" y="10966"/>
                </a:cubicBezTo>
                <a:lnTo>
                  <a:pt x="10800" y="21434"/>
                </a:lnTo>
                <a:cubicBezTo>
                  <a:pt x="10800" y="21517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Accolade fermante 28"/>
          <p:cNvSpPr/>
          <p:nvPr/>
        </p:nvSpPr>
        <p:spPr>
          <a:xfrm>
            <a:off x="7581960" y="1879560"/>
            <a:ext cx="217440" cy="1266840"/>
          </a:xfrm>
          <a:custGeom>
            <a:avLst/>
            <a:gdLst>
              <a:gd name="textAreaLeft" fmla="*/ 0 w 217440"/>
              <a:gd name="textAreaRight" fmla="*/ 78480 w 217440"/>
              <a:gd name="textAreaTop" fmla="*/ 5400 h 1266840"/>
              <a:gd name="textAreaBottom" fmla="*/ 1261440 h 12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5"/>
                  <a:pt x="10800" y="309"/>
                </a:cubicBezTo>
                <a:lnTo>
                  <a:pt x="10800" y="10491"/>
                </a:lnTo>
                <a:cubicBezTo>
                  <a:pt x="10800" y="10646"/>
                  <a:pt x="16200" y="10800"/>
                  <a:pt x="21600" y="10800"/>
                </a:cubicBezTo>
                <a:cubicBezTo>
                  <a:pt x="16200" y="10800"/>
                  <a:pt x="10800" y="10955"/>
                  <a:pt x="10800" y="11109"/>
                </a:cubicBezTo>
                <a:lnTo>
                  <a:pt x="10800" y="21291"/>
                </a:lnTo>
                <a:cubicBezTo>
                  <a:pt x="10800" y="21446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ZoneTexte 14"/>
          <p:cNvSpPr/>
          <p:nvPr/>
        </p:nvSpPr>
        <p:spPr>
          <a:xfrm>
            <a:off x="7896240" y="2349360"/>
            <a:ext cx="12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É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ZoneTexte 30"/>
          <p:cNvSpPr/>
          <p:nvPr/>
        </p:nvSpPr>
        <p:spPr>
          <a:xfrm>
            <a:off x="8147160" y="4700520"/>
            <a:ext cx="7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u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/>
          </p:nvPr>
        </p:nvSpPr>
        <p:spPr>
          <a:xfrm>
            <a:off x="298440" y="2133720"/>
            <a:ext cx="842472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Résultats à atteindre et indicateurs traceurs de la politique régionale de santé à 10 an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1f497d"/>
                </a:solidFill>
                <a:latin typeface="Calibri"/>
              </a:rPr>
              <a:t>Illustration : 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Orientation stratégique 1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mplifier les actions sur les déterminants de santé et la promotion de la santé 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Arial"/>
                <a:ea typeface="Arial"/>
              </a:rPr>
              <a:t>►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Résultat attendu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Calibri"/>
              </a:rPr>
              <a:t>Diminution de l’obésité et du surpoids dans la population de Nouvelle-Aquitaine</a:t>
            </a: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Arial"/>
                <a:ea typeface="Arial"/>
              </a:rPr>
              <a:t>► </a:t>
            </a: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Indicateurs :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Calibri"/>
              </a:rPr>
              <a:t>Part des enfants obèses et en surcharge pondérale en classe de 6ème en Nouvelle-Aquitaine.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2fa17c"/>
                </a:solidFill>
                <a:latin typeface="Calibri"/>
              </a:rPr>
              <a:t>I</a:t>
            </a:r>
            <a:endParaRPr b="0" lang="en-US" sz="7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063" name="Rectangle à coins arrondis 5"/>
          <p:cNvSpPr/>
          <p:nvPr/>
        </p:nvSpPr>
        <p:spPr>
          <a:xfrm>
            <a:off x="-468360" y="-27000"/>
            <a:ext cx="7632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Microsoft PhagsPa"/>
              </a:rPr>
              <a:t>COS - RÉSULTATS ATTENDUS ET 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/>
          </p:nvPr>
        </p:nvSpPr>
        <p:spPr>
          <a:xfrm>
            <a:off x="298440" y="2133720"/>
            <a:ext cx="842472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Résultats à atteindre et indicateurs traceurs de la politique régionale de santé à 10 an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1f497d"/>
                </a:solidFill>
                <a:latin typeface="Calibri"/>
              </a:rPr>
              <a:t>Illustration : 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Orientation stratégique 2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Promouvoir un accès équitable à la santé sur les territoires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Résultat attendu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Diminution de la mortalité prématurée évitable  au niveau de la région et de ses départements </a:t>
            </a: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Indicateur 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Calibri"/>
                <a:ea typeface="Arial"/>
              </a:rPr>
              <a:t>►</a:t>
            </a:r>
            <a:r>
              <a:rPr b="0" lang="fr-FR" sz="1800" spc="-1" strike="noStrike">
                <a:solidFill>
                  <a:srgbClr val="1f497d"/>
                </a:solidFill>
                <a:latin typeface="Calibri"/>
              </a:rPr>
              <a:t>Taux de mortalité prématuré évitable par les actions de prévention</a:t>
            </a:r>
            <a:r>
              <a:rPr b="0" lang="fr-FR" sz="1800" spc="-1" strike="noStrike">
                <a:solidFill>
                  <a:srgbClr val="1f497d"/>
                </a:solidFill>
                <a:latin typeface="Microsoft PhagsPa"/>
              </a:rPr>
              <a:t> 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2fa17c"/>
                </a:solidFill>
                <a:latin typeface="Calibri"/>
              </a:rPr>
              <a:t>I</a:t>
            </a:r>
            <a:endParaRPr b="0" lang="en-US" sz="7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067" name="Rectangle à coins arrondis 5"/>
          <p:cNvSpPr/>
          <p:nvPr/>
        </p:nvSpPr>
        <p:spPr>
          <a:xfrm>
            <a:off x="-468360" y="-27000"/>
            <a:ext cx="7632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S - résultats attendus et 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Rectangle à coins arrondis 7"/>
          <p:cNvSpPr/>
          <p:nvPr/>
        </p:nvSpPr>
        <p:spPr>
          <a:xfrm>
            <a:off x="-455760" y="-27000"/>
            <a:ext cx="7417080" cy="1511280"/>
          </a:xfrm>
          <a:prstGeom prst="roundRect">
            <a:avLst>
              <a:gd name="adj" fmla="val 16667"/>
            </a:avLst>
          </a:prstGeom>
          <a:solidFill>
            <a:srgbClr val="2fa17c"/>
          </a:solidFill>
          <a:ln w="25560">
            <a:solidFill>
              <a:srgbClr val="31b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Titre 1"/>
          <p:cNvSpPr/>
          <p:nvPr/>
        </p:nvSpPr>
        <p:spPr>
          <a:xfrm>
            <a:off x="395280" y="19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1- SNS ET P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Rectangle 2"/>
          <p:cNvSpPr/>
          <p:nvPr/>
        </p:nvSpPr>
        <p:spPr>
          <a:xfrm>
            <a:off x="395280" y="1751040"/>
            <a:ext cx="854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SNS : 4 prior</a:t>
            </a:r>
            <a:r>
              <a:rPr b="0" lang="fr-FR" sz="2800" spc="-1" strike="noStrike">
                <a:solidFill>
                  <a:srgbClr val="008080"/>
                </a:solidFill>
                <a:latin typeface="Calibri"/>
              </a:rPr>
              <a:t>i</a:t>
            </a: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tés déjà déclinées au sein du projet de P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Rectangle 4"/>
          <p:cNvSpPr/>
          <p:nvPr/>
        </p:nvSpPr>
        <p:spPr>
          <a:xfrm>
            <a:off x="395280" y="2760840"/>
            <a:ext cx="7075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a prévention et la promotion de la santé, tout au long de la vie et dans tous les mil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a lutte contre les inégalités sociales et territoriales d’accès à la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a nécessité d’accroître la pertinence et la qualité des s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’innovation organisationnelle, médicale, technologique ou numérique mise au service de tous et répondre aux besoins prioritaires en sant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Rectangle à coins arrondis 9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20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L’INTÉGRATION DE LA STRATÉ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NATIONALE DE SAN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7" name="Groupe 15"/>
          <p:cNvGrpSpPr/>
          <p:nvPr/>
        </p:nvGrpSpPr>
        <p:grpSpPr>
          <a:xfrm>
            <a:off x="6716880" y="3825720"/>
            <a:ext cx="1498320" cy="1900440"/>
            <a:chOff x="6716880" y="3825720"/>
            <a:chExt cx="1498320" cy="1900440"/>
          </a:xfrm>
        </p:grpSpPr>
        <p:pic>
          <p:nvPicPr>
            <p:cNvPr id="2078" name="Picture 4" descr=""/>
            <p:cNvPicPr/>
            <p:nvPr/>
          </p:nvPicPr>
          <p:blipFill>
            <a:blip r:embed="rId1"/>
            <a:srcRect l="34069" t="10031" r="32970" b="6945"/>
            <a:stretch/>
          </p:blipFill>
          <p:spPr>
            <a:xfrm>
              <a:off x="6868080" y="3825720"/>
              <a:ext cx="1156320" cy="19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9" name="Rectangle 14" descr=""/>
            <p:cNvPicPr/>
            <p:nvPr/>
          </p:nvPicPr>
          <p:blipFill>
            <a:blip r:embed="rId2"/>
            <a:stretch/>
          </p:blipFill>
          <p:spPr>
            <a:xfrm>
              <a:off x="6716880" y="4205880"/>
              <a:ext cx="1498320" cy="147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0" name="Titre 1"/>
          <p:cNvGrpSpPr/>
          <p:nvPr/>
        </p:nvGrpSpPr>
        <p:grpSpPr>
          <a:xfrm>
            <a:off x="-781200" y="-49320"/>
            <a:ext cx="7688520" cy="1994040"/>
            <a:chOff x="-781200" y="-49320"/>
            <a:chExt cx="7688520" cy="1994040"/>
          </a:xfrm>
        </p:grpSpPr>
        <p:pic>
          <p:nvPicPr>
            <p:cNvPr id="2081" name="Titre 1" descr=""/>
            <p:cNvPicPr/>
            <p:nvPr/>
          </p:nvPicPr>
          <p:blipFill>
            <a:blip r:embed="rId3"/>
            <a:stretch/>
          </p:blipFill>
          <p:spPr>
            <a:xfrm>
              <a:off x="-781200" y="-49320"/>
              <a:ext cx="768852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2" name=""/>
            <p:cNvSpPr/>
            <p:nvPr/>
          </p:nvSpPr>
          <p:spPr>
            <a:xfrm>
              <a:off x="-662040" y="68400"/>
              <a:ext cx="7443720" cy="17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07172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076400"/>
                  <a:tab algn="l" pos="2152800"/>
                  <a:tab algn="l" pos="3228840"/>
                  <a:tab algn="l" pos="4305240"/>
                  <a:tab algn="l" pos="5381640"/>
                  <a:tab algn="l" pos="6458040"/>
                  <a:tab algn="l" pos="7534440"/>
                  <a:tab algn="l" pos="8610480"/>
                  <a:tab algn="l" pos="9686880"/>
                  <a:tab algn="l" pos="10763280"/>
                </a:tabLst>
              </a:pPr>
              <a:r>
                <a:rPr b="1" lang="fr-FR" sz="3100" spc="-1" strike="noStrike">
                  <a:solidFill>
                    <a:srgbClr val="ffffff"/>
                  </a:solidFill>
                  <a:latin typeface="Microsoft PhagsPa"/>
                </a:rPr>
                <a:t>	</a:t>
              </a:r>
              <a:r>
                <a:rPr b="1" lang="fr-FR" sz="3100" spc="-1" strike="noStrike">
                  <a:solidFill>
                    <a:srgbClr val="ffffff"/>
                  </a:solidFill>
                  <a:latin typeface="Microsoft PhagsPa"/>
                </a:rPr>
                <a:t>LE </a:t>
              </a:r>
              <a:r>
                <a:rPr b="1" lang="fr-FR" sz="3200" spc="-1" strike="noStrike">
                  <a:solidFill>
                    <a:srgbClr val="ffffff"/>
                  </a:solidFill>
                  <a:latin typeface="Microsoft PhagsPa"/>
                </a:rPr>
                <a:t>SCHÉMA RÉGIONAL DE SANTÉ : ETAT D’AVANCEM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ZoneTexte 2"/>
          <p:cNvSpPr/>
          <p:nvPr/>
        </p:nvSpPr>
        <p:spPr>
          <a:xfrm>
            <a:off x="250920" y="2173320"/>
            <a:ext cx="82818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80"/>
                </a:solidFill>
                <a:latin typeface="Calibri"/>
              </a:rPr>
              <a:t>Des productions thématiques issues de la concer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Flèche droite 4"/>
          <p:cNvSpPr/>
          <p:nvPr/>
        </p:nvSpPr>
        <p:spPr>
          <a:xfrm>
            <a:off x="1763640" y="4276800"/>
            <a:ext cx="57636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Flèche droite 5"/>
          <p:cNvSpPr/>
          <p:nvPr/>
        </p:nvSpPr>
        <p:spPr>
          <a:xfrm>
            <a:off x="3921120" y="4276800"/>
            <a:ext cx="57636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ZoneTexte 7"/>
          <p:cNvSpPr/>
          <p:nvPr/>
        </p:nvSpPr>
        <p:spPr>
          <a:xfrm>
            <a:off x="250920" y="3322800"/>
            <a:ext cx="1512720" cy="1554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Contenus thématiq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31 groupes de travail / 94 réunions  / 165 parten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ZoneTexte 8"/>
          <p:cNvSpPr/>
          <p:nvPr/>
        </p:nvSpPr>
        <p:spPr>
          <a:xfrm>
            <a:off x="2365200" y="3335400"/>
            <a:ext cx="1555920" cy="1554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Relecture, modification, restructuration des contenus thématiq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ZoneTexte 9"/>
          <p:cNvSpPr/>
          <p:nvPr/>
        </p:nvSpPr>
        <p:spPr>
          <a:xfrm>
            <a:off x="4643280" y="3336840"/>
            <a:ext cx="1433520" cy="1554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Document  de travail intermédiai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5 axes (OS) - 25 thè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ZoneTexte 10"/>
          <p:cNvSpPr/>
          <p:nvPr/>
        </p:nvSpPr>
        <p:spPr>
          <a:xfrm>
            <a:off x="6443640" y="3336840"/>
            <a:ext cx="1771560" cy="3070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1f497d"/>
                </a:solidFill>
                <a:latin typeface="Calibri"/>
              </a:rPr>
              <a:t>Projet de S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Flèche droite 11"/>
          <p:cNvSpPr/>
          <p:nvPr/>
        </p:nvSpPr>
        <p:spPr>
          <a:xfrm>
            <a:off x="6076800" y="4240080"/>
            <a:ext cx="57636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Ellipse 16"/>
          <p:cNvSpPr/>
          <p:nvPr/>
        </p:nvSpPr>
        <p:spPr>
          <a:xfrm>
            <a:off x="5772240" y="3206880"/>
            <a:ext cx="2336760" cy="2303280"/>
          </a:xfrm>
          <a:prstGeom prst="ellipse">
            <a:avLst/>
          </a:prstGeom>
          <a:noFill/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834EB8-8643-4596-A947-57372442D07A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16992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ORDRE du J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86" name=""/>
          <p:cNvGraphicFramePr/>
          <p:nvPr/>
        </p:nvGraphicFramePr>
        <p:xfrm>
          <a:off x="1122480" y="777960"/>
          <a:ext cx="6980040" cy="6114960"/>
        </p:xfrm>
        <a:graphic>
          <a:graphicData uri="http://schemas.openxmlformats.org/drawingml/2006/table">
            <a:tbl>
              <a:tblPr/>
              <a:tblGrid>
                <a:gridCol w="6980040"/>
              </a:tblGrid>
              <a:tr h="70164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1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TRATÉGIE NATIONALE DE SANTÉ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- DR VÉRONIQUE GILLERON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8100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2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PPEL A PROJET ARS ANNUEL POUR DÉVELOPPER LES ACTIONS DE PRÉVENTION HORS LES MURS PAR LES ÉTABLISSEMENTS DE SAN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hristophe CAILLIEREZ (DIRECTION DE LA SANTÉ PUBLIQUE – ARS N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3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ROJET RÉGIONAL DE SANTÉ NOUVELLE-AQUITAINE : SON ACTUALI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R ISABELLE JAM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2212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4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LES CONTRÔLES T2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AMPAGNE DE CONTRÔLE 2017 – DR CORINNE ABAD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RÉSENTATION DE L’ÉTUDE CRIMA – DR ELISABETH CAPDENAT-RAYMO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MODALITÉS DE CONTRÔLES – DR  VÉRONIQUE GILLER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200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5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OINT SUR LES GROUPES DE TRAVAIL DU COTR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R CORINNE ABAD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6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ONFIDENTIALITÉ DES DONNÉES : RAPPEL DE LA RÉGLEM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R PAUL CHA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0816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7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CTUALITÉ 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LAMDA, ENC, EMOIS-ADELF, JOURNÉES DU GRAND SUD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ATES DES PROCHAINES REUNIONS PLENIERES DU COTRIM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Rectangle à coins arrondis 7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               </a:t>
            </a:r>
            <a:r>
              <a:rPr b="1" lang="fr-FR" sz="2400" spc="-1" strike="noStrike">
                <a:solidFill>
                  <a:srgbClr val="ffffff"/>
                </a:solidFill>
                <a:latin typeface="Microsoft PhagsPa"/>
              </a:rPr>
              <a:t>PRS Nouvelle-Aquita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          </a:t>
            </a: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Le Calend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Titre 1"/>
          <p:cNvSpPr/>
          <p:nvPr/>
        </p:nvSpPr>
        <p:spPr>
          <a:xfrm>
            <a:off x="395280" y="19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4" name=""/>
          <p:cNvGraphicFramePr/>
          <p:nvPr/>
        </p:nvGraphicFramePr>
        <p:xfrm>
          <a:off x="826920" y="2924280"/>
          <a:ext cx="7091640" cy="2131920"/>
        </p:xfrm>
        <a:graphic>
          <a:graphicData uri="http://schemas.openxmlformats.org/drawingml/2006/table">
            <a:tbl>
              <a:tblPr/>
              <a:tblGrid>
                <a:gridCol w="2376720"/>
                <a:gridCol w="4714920"/>
              </a:tblGrid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. – déc.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ursuite relecture / mise en for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cuments de travail intermédiaires P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.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t de PRS V1 avant intégration S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v.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t de PRS V2 intégrant les orientations S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év. – Avril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ation lég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justement PRS et pub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5" name="Rectangle 1"/>
          <p:cNvSpPr/>
          <p:nvPr/>
        </p:nvSpPr>
        <p:spPr>
          <a:xfrm>
            <a:off x="409680" y="177336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80"/>
                </a:solidFill>
                <a:latin typeface="Calibri"/>
              </a:rPr>
              <a:t>Calendrier amendé d’élaboration du PRS Nouvelle-Aquit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Espace réservé de la date 2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17400" y="2943000"/>
            <a:ext cx="756936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LES CONTRÔLES T2A</a:t>
            </a:r>
            <a:br>
              <a:rPr sz="3600"/>
            </a:br>
            <a:r>
              <a:rPr b="1" lang="fr-FR" sz="25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DR CORINNE ABADIE</a:t>
            </a:r>
            <a:br>
              <a:rPr sz="3200"/>
            </a:br>
            <a:br>
              <a:rPr sz="32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Espace réservé du numéro de diapositive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BF99D6-0741-473A-BDD4-9CDC19623896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icrosoft PhagsPa"/>
              </a:rPr>
              <a:t>CAMPAGNE DE CONTRÔLE 2017</a:t>
            </a:r>
            <a:endParaRPr b="0" lang="en-US" sz="40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6840" y="1312560"/>
            <a:ext cx="833292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Les thèmes retenus au plan régional 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es actes et consultations externes facturés en hospitalisation de jour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es séjours avec comorbidités pour lesquels le ciblage s’est orienté sur le niveau de sévérité 3 et 4 (voire 2) (thème sanctionnable)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e codage du DP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Période contrôlée : du 1</a:t>
            </a:r>
            <a:r>
              <a:rPr b="0" lang="fr-FR" sz="2800" spc="-1" strike="noStrike" baseline="30000">
                <a:solidFill>
                  <a:srgbClr val="000066"/>
                </a:solidFill>
                <a:latin typeface="Calibri"/>
              </a:rPr>
              <a:t>er</a:t>
            </a: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 mars au 31 décembre 2016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101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1D9F91-D6FA-4A7A-9782-3C5404E7B46B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icrosoft PhagsPa"/>
              </a:rPr>
              <a:t>CAMPAGNE DE CONTRÔLE 2017</a:t>
            </a:r>
            <a:endParaRPr b="0" lang="en-US" sz="40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252360" y="1312560"/>
            <a:ext cx="802008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17 établissements contrôlés 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harente : 1 clinique privée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harente Maritime : 2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orrèze : 1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Gironde : 3 cliniques privées, 1 ESPIC, 1 CLCC, 1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ot et Garonne : 2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Pyrénées Atlantiques : 1 CH, 3 cliniques privée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Deux Sèvres : 1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104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C5877C-8A62-40AB-BE3D-70EA1AEE8CAF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312840" y="2433600"/>
            <a:ext cx="788976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POINT SUR LES GROUPES DE TRAVAIL</a:t>
            </a:r>
            <a:br>
              <a:rPr sz="3900"/>
            </a:br>
            <a:r>
              <a:rPr b="1" lang="fr-FR" sz="25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DR CORINNE ABADIE</a:t>
            </a:r>
            <a:br>
              <a:rPr sz="2500"/>
            </a:br>
            <a:br>
              <a:rPr sz="32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Espace réservé du numéro de diapositive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562C8F-D7FF-4FC3-B88A-ECA5FD004B3E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Microsoft PhagsPa"/>
              </a:rPr>
              <a:t>GROUPES DE TRAVAIL COTRIM NA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56840" y="1564920"/>
            <a:ext cx="781524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Les principes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Objectif : travailler sur la qualité des données et sur l’analyse du champ en fonction des thématiques définie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4 groupes, 1 par champ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2 dates « bloquées » 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lvl="1" marL="508680" indent="-4068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Calibri"/>
              </a:rPr>
              <a:t>16 novembre et 7 décembre de 8 à 18h salle 353 (capacité 16p)  </a:t>
            </a:r>
            <a:endParaRPr b="0" lang="en-US" sz="2400" spc="-1" strike="noStrike">
              <a:solidFill>
                <a:srgbClr val="31b564"/>
              </a:solidFill>
              <a:latin typeface="Microsoft PhagsPa"/>
            </a:endParaRPr>
          </a:p>
          <a:p>
            <a:pPr lvl="1" marL="508680" indent="-4068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Calibri"/>
              </a:rPr>
              <a:t>Groupe psychiatrie 18 octobre et 22 novembre 2017</a:t>
            </a:r>
            <a:endParaRPr b="0" lang="en-US" sz="2400" spc="-1" strike="noStrike">
              <a:solidFill>
                <a:srgbClr val="31b564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109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6E9DEF-FCA7-4DE6-A399-18AC7CD3A275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M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0EA01D-A23D-491B-83AC-BD8C2D8C184F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3" name=""/>
          <p:cNvGraphicFramePr/>
          <p:nvPr/>
        </p:nvGraphicFramePr>
        <p:xfrm>
          <a:off x="590400" y="2697120"/>
          <a:ext cx="7583760" cy="2475000"/>
        </p:xfrm>
        <a:graphic>
          <a:graphicData uri="http://schemas.openxmlformats.org/drawingml/2006/table">
            <a:tbl>
              <a:tblPr/>
              <a:tblGrid>
                <a:gridCol w="3289320"/>
                <a:gridCol w="4294440"/>
              </a:tblGrid>
              <a:tr h="50904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4330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mmanuelle BERGEAL -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 - 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6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Denis REVIRON - Cliniques NAVARRE - MARZET (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ric CAPDEQUY  CH DAX (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BERTHELEMY -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32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Anne Marie RULLION PAC SOO  - CH AGEN-NERAC (4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0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BUHAJ - CH PERIGUEUX (2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PERRET (etab privés ESPI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H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7058B8-3560-4EFC-AB97-5718F87B73BB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7" name=""/>
          <p:cNvGraphicFramePr/>
          <p:nvPr/>
        </p:nvGraphicFramePr>
        <p:xfrm>
          <a:off x="609480" y="2549520"/>
          <a:ext cx="7810560" cy="2128680"/>
        </p:xfrm>
        <a:graphic>
          <a:graphicData uri="http://schemas.openxmlformats.org/drawingml/2006/table">
            <a:tbl>
              <a:tblPr/>
              <a:tblGrid>
                <a:gridCol w="3630600"/>
                <a:gridCol w="4179960"/>
              </a:tblGrid>
              <a:tr h="56160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-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6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ric CAPDEQUY  CH DAX (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38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mmanuelle  BERGEAL 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BUHAJ -  CH PERIGUEUX (2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080">
                <a:tc row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Dr Nathalie CABON-ASENCIO – DIM MSP Bagatelle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SS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D88D5A-1B94-49E5-B09F-B90B61CE327D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1" name=""/>
          <p:cNvGraphicFramePr/>
          <p:nvPr/>
        </p:nvGraphicFramePr>
        <p:xfrm>
          <a:off x="569880" y="2697120"/>
          <a:ext cx="8029440" cy="1847880"/>
        </p:xfrm>
        <a:graphic>
          <a:graphicData uri="http://schemas.openxmlformats.org/drawingml/2006/table">
            <a:tbl>
              <a:tblPr/>
              <a:tblGrid>
                <a:gridCol w="3343320"/>
                <a:gridCol w="4686120"/>
              </a:tblGrid>
              <a:tr h="50904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239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Patrick LANDREAU  -CH NIORT (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Dr Béatrice JANVOIE-OUILLET  - GH LA ROCHELLE RE-AUNIS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32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- 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PERRET (étab. privés ESPI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atherine BALLAY -  CH PAYS EYGURANDE 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ric CAPDEQUY  - CH DAX (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BUHAJ -  CH PERIGUEUX (2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PSYCHIATR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858678-243F-449D-8ABB-C2006C1D14F9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5" name=""/>
          <p:cNvGraphicFramePr/>
          <p:nvPr/>
        </p:nvGraphicFramePr>
        <p:xfrm>
          <a:off x="517680" y="2124000"/>
          <a:ext cx="7792920" cy="3176640"/>
        </p:xfrm>
        <a:graphic>
          <a:graphicData uri="http://schemas.openxmlformats.org/drawingml/2006/table">
            <a:tbl>
              <a:tblPr/>
              <a:tblGrid>
                <a:gridCol w="3665520"/>
                <a:gridCol w="4127400"/>
              </a:tblGrid>
              <a:tr h="53172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Patrick LANDREAU  - CH NIORT (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orinne FREIMANN - CH LA CANDELIE (4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-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Bénédicte SOULA - CH des PYRENEES (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atherine BALLAY - CH PAYS EYGURANDE 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BERTHELEMY - 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ranck CHALARD - CH ESQUIROL (8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LANGLOIS-GEY  - CH ESQUIROL (8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Paul FORCET  - CH CAMILLE  CLAUDEL (1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Roland BOUET - CH Henri LABORIT (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Isabelle BLANCHARD - CH COTE BASQUE SUD (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hantal BERGEY - CH CHARLES PERRENS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hristine BOUVIER - ASSOCIATION RENOVATION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Bérénice BRECHAT-HUET -  CH de CADILLAC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6" name="Tableau 12" descr=""/>
          <p:cNvPicPr/>
          <p:nvPr/>
        </p:nvPicPr>
        <p:blipFill>
          <a:blip r:embed="rId1"/>
          <a:stretch/>
        </p:blipFill>
        <p:spPr>
          <a:xfrm>
            <a:off x="4187880" y="3333600"/>
            <a:ext cx="768240" cy="19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7" name="Objet 13"/>
          <p:cNvGraphicFramePr/>
          <p:nvPr/>
        </p:nvGraphicFramePr>
        <p:xfrm>
          <a:off x="517680" y="5753160"/>
          <a:ext cx="4330440" cy="19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28" name="Obje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7680" y="5753160"/>
                    <a:ext cx="43304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692280" y="2943000"/>
            <a:ext cx="749448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Stratégie nationale de santé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et bases de données médicales</a:t>
            </a:r>
            <a:br>
              <a:rPr sz="3600"/>
            </a:br>
            <a:r>
              <a:rPr b="1" lang="fr-FR" sz="25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Dr Véronique GILLER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8" name="Picture 4" descr="I:\DIRECTION_GENERALE\COMMUNICATION\COM EXTERNE\EVENEMENTIELS EXTERNES\2015\Journee_qualite_securite_18112015\Invitation\ARS_NA_LOGO_RVB.jpg"/>
          <p:cNvPicPr/>
          <p:nvPr/>
        </p:nvPicPr>
        <p:blipFill>
          <a:blip r:embed="rId1"/>
          <a:stretch/>
        </p:blipFill>
        <p:spPr>
          <a:xfrm>
            <a:off x="0" y="0"/>
            <a:ext cx="24433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Stratégie Nationale de San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Le principe d'une stratégie nationale de santé a été posé à l'article 1er de la loi du 26 janvier 2016 de "modernisation de notre système de santé", et son élaboration encadrée par un décret publié fin novembre 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des domaines d’action prioritaires et des objectifs d’amélioration de la santé et de la protection sociale contre la malad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Espace réservé du numéro de diapositive 4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57C13B-4423-48F7-AB2A-37673696D5F6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Saisine Haut Conseil Santé Publiq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531360" y="1312560"/>
            <a:ext cx="81550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Saisine du 17 mai 2017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Calibri"/>
              </a:rPr>
              <a:t>le Secrétariat général des ministères chargés des affaires sociales (SGMCAS) et la Direction générale de la santé (DGS) ont sollicité l’avis HCSP sur la stratégie nationale de santé (SN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Conférence de presse ministre le 18 septemb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Publication des travaux sur le site HCS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hcsp.fr/explore.cgi/avisrapportsdomaine?clefr=6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Phase de concertation avant publication des textes officie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Stratégie nationale de santé sera déclinée en région dans le cadre de projets territoriaux 1</a:t>
            </a:r>
            <a:r>
              <a:rPr b="0" lang="fr-FR" sz="2700" spc="-1" strike="noStrike" baseline="30000">
                <a:solidFill>
                  <a:srgbClr val="008080"/>
                </a:solidFill>
                <a:latin typeface="Calibri"/>
              </a:rPr>
              <a:t>er</a:t>
            </a: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 semestre 201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4" name="Espace réservé du numéro de diapositive 4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57DBC4-7E69-4218-8D37-1433859CE0B0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Prévention et promotion de la santé : axe essentiel de la SN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000" spc="-1" strike="noStrike">
                <a:solidFill>
                  <a:srgbClr val="008080"/>
                </a:solidFill>
                <a:latin typeface="Calibri"/>
              </a:rPr>
              <a:t>Sept principaux objectif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omotion alimentation saine et activité physiqu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évention maladies infectieu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Lutte contre les conduites addictiv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omotion de la santé menta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omotion d’un environnement et de conditions de travail favorables à la sant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Amélioration du dépist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évention de perte d’autonom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Espace réservé du numéro de diapositive 5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3A1C3A-5C32-43FB-AC84-2EFC40704C26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Stratégie d’action pour une S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360360" y="1312920"/>
            <a:ext cx="7912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Mise en œuv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Pilotage par indicate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Renforcement de l’accès aux données et des    systèmes d’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Un pilotage stratégique et opérationn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Une évaluation de la S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Plan national de santé publ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08400" indent="-32436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ohérence des objectifs et des 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92F034-4E8A-4413-8BAE-B33C55B0D6AF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Art 35 projet PLF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312920"/>
            <a:ext cx="808344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Cadre des expérimentations pour de nouvelles organisations (innovation organisationnel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Emergence de nouvelles organisations</a:t>
            </a:r>
            <a:r>
              <a:rPr b="0" lang="mr-IN" sz="3200" spc="-1" strike="noStrike">
                <a:solidFill>
                  <a:srgbClr val="008080"/>
                </a:solidFill>
                <a:latin typeface="Mangal"/>
                <a:ea typeface="Mangal"/>
              </a:rPr>
              <a:t>…</a:t>
            </a: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. concourant à l’amélioration de la prise en charge et du parcours patient</a:t>
            </a:r>
            <a:r>
              <a:rPr b="0" lang="mr-IN" sz="3200" spc="-1" strike="noStrike">
                <a:solidFill>
                  <a:srgbClr val="008080"/>
                </a:solidFill>
                <a:latin typeface="Mangal"/>
                <a:ea typeface="Mang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« décloisonner la prise en charge des patients pour une séquence de soin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3281FA-FB67-4261-9B49-83BF06611AD2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4" name="Titre 1"/>
          <p:cNvGrpSpPr/>
          <p:nvPr/>
        </p:nvGrpSpPr>
        <p:grpSpPr>
          <a:xfrm>
            <a:off x="-633240" y="450720"/>
            <a:ext cx="7394400" cy="5023080"/>
            <a:chOff x="-633240" y="450720"/>
            <a:chExt cx="7394400" cy="5023080"/>
          </a:xfrm>
        </p:grpSpPr>
        <p:pic>
          <p:nvPicPr>
            <p:cNvPr id="2005" name="Titre 1" descr=""/>
            <p:cNvPicPr/>
            <p:nvPr/>
          </p:nvPicPr>
          <p:blipFill>
            <a:blip r:embed="rId1"/>
            <a:stretch/>
          </p:blipFill>
          <p:spPr>
            <a:xfrm>
              <a:off x="-633240" y="450720"/>
              <a:ext cx="7394400" cy="502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6" name=""/>
            <p:cNvSpPr/>
            <p:nvPr/>
          </p:nvSpPr>
          <p:spPr>
            <a:xfrm>
              <a:off x="-369720" y="719280"/>
              <a:ext cx="685944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62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000"/>
              </a:br>
              <a:r>
                <a:rPr b="1" lang="fr-FR" sz="3600" spc="-1" strike="noStrike">
                  <a:solidFill>
                    <a:srgbClr val="ffffff"/>
                  </a:solidFill>
                  <a:latin typeface="Microsoft PhagsPa"/>
                </a:rPr>
                <a:t>PROJET RÉGIONAL DE SANTÉ NOUVELLE-AQUITAINE</a:t>
              </a:r>
              <a:br>
                <a:rPr sz="4300"/>
              </a:br>
              <a:r>
                <a:rPr b="1" lang="fr-FR" sz="3600" spc="-1" strike="noStrike">
                  <a:solidFill>
                    <a:srgbClr val="ffffff"/>
                  </a:solidFill>
                  <a:latin typeface="Microsoft PhagsPa"/>
                </a:rPr>
                <a:t>SON ACTUALITÉ</a:t>
              </a:r>
              <a:br>
                <a:rPr sz="3600"/>
              </a:br>
              <a:br>
                <a:rPr sz="3600"/>
              </a:br>
              <a:r>
                <a:rPr b="1" lang="fr-FR" sz="2500" spc="-1" strike="noStrike">
                  <a:solidFill>
                    <a:srgbClr val="ffffff"/>
                  </a:solidFill>
                  <a:latin typeface="Microsoft PhagsPa"/>
                </a:rPr>
                <a:t>DR ISABELLE JAMET</a:t>
              </a:r>
              <a:br>
                <a:rPr sz="3600"/>
              </a:br>
              <a:br>
                <a:rPr sz="3600"/>
              </a:b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4T08:27:43Z</dcterms:created>
  <dc:creator>delusk</dc:creator>
  <dc:description/>
  <dc:language>en-US</dc:language>
  <cp:lastModifiedBy>Isabelle Jamet</cp:lastModifiedBy>
  <cp:lastPrinted>2017-10-17T10:33:24Z</cp:lastPrinted>
  <dcterms:modified xsi:type="dcterms:W3CDTF">2017-10-17T10:34:04Z</dcterms:modified>
  <cp:revision>58</cp:revision>
  <dc:subject/>
  <dc:title>Diapositive 1</dc:title>
</cp:coreProperties>
</file>