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png" ContentType="image/png"/>
  <Override PartName="/ppt/media/image29.wmf" ContentType="image/x-wmf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dt" idx="6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ftr" idx="6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6"/>
          <p:cNvSpPr>
            <a:spLocks noGrp="1"/>
          </p:cNvSpPr>
          <p:nvPr>
            <p:ph type="sldNum" idx="6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D6AC1-2211-4C1E-9CA4-67545FD191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fondé sur une approche globale de la santé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Un PRS resserré sur l’objectif et le résultat à atteind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2fa17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FR" sz="1200" spc="-1" strike="noStrike">
                <a:solidFill>
                  <a:srgbClr val="2fa17c"/>
                </a:solidFill>
                <a:latin typeface="Calibri"/>
              </a:rPr>
              <a:t>Qui engage tous les acteurs de santé à développer davantage la transversalité entre les secteurs de la prévention, du sanitaire et du médico-social, et la coordination avec les autres politiques publ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D862D-C631-468D-9AC7-0B57088769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B35A8-71B1-45C4-95F6-978D8481AE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C52B8-E728-476B-A2B2-9B74B69DB2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Espace réservé du numéro de diapositive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7A514-C43F-420E-9075-5EA8E23495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1CD6A-3880-4001-8AE6-A5B9A65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E46BE-69C6-4ECC-A428-783629D4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C3D9D-C8B6-4E79-AFCD-F0CF60C8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87968-4693-4B82-9D18-D663726C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3583C-249A-4A6C-A992-37948A8F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EC108-8613-48F5-9FBC-5552DF9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F64C5E-5EED-4498-AE88-39EAF8A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FD840-AE09-4FF7-A144-ED77EDC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46949-A564-48F9-8B6E-34629DF3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899-8D08-4CF2-BD4E-EB1C8802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EEE24-37DC-4E08-AA11-CD7CCD26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57591-FF4A-469B-9198-D1FAFBF0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D40CD-0017-4077-9148-15E670E8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D6BF72-321C-464F-BB05-2441BA9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1CB89-1F98-4F4A-B7D5-9ECC3DA5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6AD9A5-DE46-416A-938C-C910C4E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BE21E-CAF4-423E-B2A5-573A6073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D62BC-EE8F-41A9-B378-BB325A6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C8440-CB5A-4D94-A88B-762CE26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15DDBC-F186-48C7-A19A-443F419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8E8-BF8B-4DE6-A88F-7AF3BF6A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16967-88F5-4D43-BB0D-2304A274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CA282A-3FF1-40E7-911E-28885C3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6C21C-AD5F-42B0-9124-F6A953A1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53649-6165-45F8-8D09-6C4FF594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A6ADE4-CF66-4EE4-BA0F-9FD7D2A8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E20C45-1980-40D8-AB4B-9C272E8B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9E329-B5AB-4021-823C-C92B6A1B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3F787-22AF-4FD2-9A22-98083E50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7CF882-8E3F-46A8-93CE-A8B6C88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A8305C-CAC5-4F10-83A5-4AC00990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719-9AD9-4B9E-B021-E9520FCF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1BC591-CB5C-4548-9675-5650B3A3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F459CE-62C8-4529-8DA0-AFBAE7D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4DA28-B91D-4065-8118-EC36F73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450FA-8780-44DE-9B0A-6989FE0F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C2329-B652-4E6E-A04C-4B6CDC6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799E9-9C5D-49C1-9423-3E6BCC43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055707-7837-43D0-A147-AC52C6FC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577040-5979-47EC-8894-53FE6432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3AF32-BD40-4459-8CDE-3E557F4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F3FFAB-773D-473B-A71A-FE43340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E9B-4DE9-492E-B217-CD42198D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0A3D4F-F936-4928-8232-1A5312D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93062D-02B2-499E-9BD1-61AADC3F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516CF-9950-4A87-9F5A-7308F670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2CF26F-4146-442F-8CB4-90B681AF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AAF552-5B37-4479-B580-2B0F182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62532E-73D6-40F6-91C4-803B9CD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ED8E4-8561-4E86-9162-C18EE61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BD1DA5-D93B-4FF5-8E66-DB3EED4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45F445-7031-4681-9A0C-0F8B3906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35F737-7219-4B7A-B7B9-5B7D3B04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74A-E8DD-498B-8B38-F1209B6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7FBD7-7558-4546-B43E-BBC34DA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5B0A83-C452-4B1A-B7DC-70A8BE1F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78F4F-8194-49F8-9C68-7F18099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00D3DB-E8D1-4C81-9091-233EE140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13DBA2-C741-4FE8-AC2E-A4870B99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FC1B42-8592-4938-AE36-A3D203CC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7402D8-A576-4808-9F62-8862A86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36ED78-33D2-457D-9861-4497BD6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1FDEA2-80C5-4100-B9A5-5D90490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42FD1-D914-4DCC-8346-37F35FA0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594-D343-4E9C-A033-2E90A3B5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21C64B-4AB4-467D-957F-8D23C852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F6895E-75AF-4B1B-A66A-7E5FC9E5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750C0F-7D11-4446-AB23-16B8D7E5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46533D-82FB-4D7C-8309-E51D22E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600229-43CC-415C-B5F2-82B48856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E98B20-F95F-430E-9E52-C9C69CC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F1E994-9A1C-4639-9AF7-8F923D5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634C54-50C9-4A05-9FD3-253A8B5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502D9F-997A-4047-AAFD-F938D9D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125216-BBDA-46B5-8DEC-D7B77CE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B71-07D6-46D6-B47D-4B569421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F123AE-42EB-4A46-BBFC-4F4302F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73C1AE-91CF-4A25-BB8E-D601A1AB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27738C-8A99-4835-B7FD-522E3499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CECF59-50DD-449E-AD4E-B6CC7CCB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DF5D5A-2727-436C-AC23-EAD9DE8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A51A0F-3D1D-4D0F-B6FD-D5E0A31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C904A4-BEBF-45BB-8008-530C2DF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3DA6F-68CB-4FDD-9602-49ACA45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B2A204-BCC1-4B55-8665-4CF530B1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FBF645-14E6-443E-BECA-97A326B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9AA-E7F1-46C6-A228-FAB97932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F865BE-B183-4291-BFD2-0C1A48E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8F63AA-F38B-4008-AE49-9AE2454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89D6BF-8034-4A5F-A6C3-1B2CC04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9049A8-F9DD-46D5-84DE-9D6BB19D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620A4-FC49-4811-B711-1FDE2DD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740122-65CB-4401-98D2-FB6E0316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E92883-A276-40DF-886A-5F88DAF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79A2F1-A059-46EC-80F1-DF51F5D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E524DAA-E1D9-4B6D-B34E-07D8D050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B8B4CA-5C26-4540-BB33-C0F38099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D6A-C25E-40D9-B8FB-7F5FCCA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8775EE-DA23-4156-8F43-D298137D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811B9E-BEC0-4DB1-B6E7-489C0C4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29DF14-9E7A-46B8-A9B3-E8ED1FB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5E228A-C535-4F33-A79B-7A0CA9D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BC6CFD-1DB8-431D-80FD-80D08A7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CAE37F-038A-465D-9F12-31CC9D3D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B821F8-46BD-4668-8EEF-DA3A39B2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0EDA41-94AB-4EC3-BA35-49089447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FF9DBD-1C1D-4908-89A2-C74A2BEF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E333D8-A823-4B17-961E-A99CC602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FFB-FB3C-413A-9C2E-F85844A4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0901E8-4E7F-4474-B38F-89522B44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B0838F-D946-48F1-928B-5A58A15D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F77F87-FDEC-4377-A628-CAF7A23F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15B886-38C6-44D2-A26B-8A32550E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3B17CA-0D12-487A-9419-F2A87F2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F4AC1F-96B7-40BD-B7BD-BE4DF362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DF8FBE-8695-47A3-8B09-FDA8D7C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2DFFAA-EC79-4568-9333-094B7015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35B66A-A885-4081-9DE9-F39166D6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6C8D9F5-9ACA-439E-941C-03D2290F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43B-9687-4EEC-85C2-635740CF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B5CFD8-3D6D-4BE2-BE8C-C5DCDD1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DD305D-A383-4DC3-B04E-BCE49EA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983130-9076-4E23-8EF2-F9DE101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597C72-E2E8-4F6D-B928-A2FF008E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D9B3F0-B63A-41C6-AEC2-46641EA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9F0326-30F1-4980-8EB6-AC72106D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C33458-3532-40DB-B410-42BE850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D4B2F1-9505-4169-9251-D48FE14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34C464-96B4-4BD7-A930-169DDC51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A837FE-B341-4456-9FBD-960C03A8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69F-8FA7-470A-AAB2-922BB715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00AB94-E321-42D6-840D-0AA1AC24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5DE6AD-5310-48C5-8042-DA4E129F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A65E4C-0873-434B-B5C7-164BC49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30919A-3969-4A7D-8BFC-A6762F8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9DAF04-7538-4A69-BB74-1A4E735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70BFCC-5008-4C6F-BB64-966BF50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5B2823-AFD0-493D-A366-B068060C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AC327C-AA8C-4A62-B5CC-2F47478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044A60-492C-4EA1-90FC-D61FFC7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33C65C-67E7-48C8-AABA-B103D14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008A56-F753-42AF-82C1-9730FF00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06EB36-3353-4F14-B377-6CCD79C7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E64FE9-062E-4151-974E-0EB1F9CE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7140B3-0042-4DCD-B76A-FFAE311DAC0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37D669A-A66A-410E-B9A2-8C2FE6869331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3E936C-C493-44F2-BA31-9501BDEF5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2AFFB6-82C6-4634-AE3D-90D57F6651E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48F0D9-D296-4AD8-986B-89BAA370DA6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C0DC95-CC8F-4677-9657-1461BAE255E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2E33856-6AB5-4182-9E01-25FDCF508CF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B87FBC-0A60-4E86-998E-F4B5E6B0DC5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6B1B96-0893-4117-A31F-7BB33FA5A514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C4C078-7CF3-4031-A8DB-6F8288437063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F24DB1-8F58-4BD9-BBA7-24ADD115162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A5B460-8352-47E4-9733-CDB7140B905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232D0-1EF4-4201-B457-B59FB034BC7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B333DA-4509-44CB-B119-ABBBF4E937C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5BD6F4-D66A-4026-AA9E-7BDF71ACDD58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BADB1-F8E1-47B3-9020-2BAE9D6DFC3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78FE2-BE05-4301-BB6C-BB2B7CA2B1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A2D3D-0134-4FA8-B5D0-599198BAEE8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AD327-6E52-4AC8-BD3D-E37B3B76F14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7EFA3-E8F6-437D-9B04-8A31FD7D60FA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D53AE-04D3-4244-A495-769992E7359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25288-1ADE-4BD3-B866-581E388F4EB9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BC7B98-9035-411F-AED3-0C404C700C1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015EF-2AF4-44B7-B9EE-A332EA1F29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868E-4343-4E91-8EDF-40E461B4F6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BA95B-7856-43E3-AD8D-E46D925857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D9ADC-6CD7-426C-B210-739DFEB8266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8ADB6-B5A3-4E23-8EDD-201B5B8A9E1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83A10-A42A-41A7-90AF-486D4B2284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18B56-B2B2-47C9-8F91-EC92C6EBF8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60BF8-1BF8-49E7-9C0F-4698189F4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184E1-CE54-4F75-BFA9-BC276D9018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00DE3-F392-4739-9D16-415D126F91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F6E40-8A10-4C2F-AEEA-41B3E45256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C97E3-148E-4EFB-A5C6-E5E24B8325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E2F2-C7A9-4727-8823-CFBBAB8E773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29.xml"/><Relationship Id="rId6" Type="http://schemas.openxmlformats.org/officeDocument/2006/relationships/slideLayout" Target="../slideLayouts/slideLayout530.xml"/><Relationship Id="rId7" Type="http://schemas.openxmlformats.org/officeDocument/2006/relationships/slideLayout" Target="../slideLayouts/slideLayout531.xml"/><Relationship Id="rId8" Type="http://schemas.openxmlformats.org/officeDocument/2006/relationships/slideLayout" Target="../slideLayouts/slideLayout532.xml"/><Relationship Id="rId9" Type="http://schemas.openxmlformats.org/officeDocument/2006/relationships/slideLayout" Target="../slideLayouts/slideLayout533.xml"/><Relationship Id="rId10" Type="http://schemas.openxmlformats.org/officeDocument/2006/relationships/slideLayout" Target="../slideLayouts/slideLayout534.xml"/><Relationship Id="rId11" Type="http://schemas.openxmlformats.org/officeDocument/2006/relationships/slideLayout" Target="../slideLayouts/slideLayout535.xml"/><Relationship Id="rId12" Type="http://schemas.openxmlformats.org/officeDocument/2006/relationships/slideLayout" Target="../slideLayouts/slideLayout536.xml"/><Relationship Id="rId13" Type="http://schemas.openxmlformats.org/officeDocument/2006/relationships/slideLayout" Target="../slideLayouts/slideLayout537.xml"/><Relationship Id="rId14" Type="http://schemas.openxmlformats.org/officeDocument/2006/relationships/slideLayout" Target="../slideLayouts/slideLayout538.xml"/><Relationship Id="rId15" Type="http://schemas.openxmlformats.org/officeDocument/2006/relationships/slideLayout" Target="../slideLayouts/slideLayout539.xml"/><Relationship Id="rId16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359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01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4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43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1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2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27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56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569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1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1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11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1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5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53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1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69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695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1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3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737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1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38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9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77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1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00619-E292-432C-A2FA-429AE2E1C04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DA3981-4278-4C4A-9A20-5D8954CE1B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434AE-D472-41A2-B959-230A97D8CF2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A808C-EE91-4A2F-B8BF-FB60AE4A1AD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B2D1A-F2DD-4538-963C-B2F5AE3CE55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11106-65D8-45F5-A85D-C70F7DB3FE9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5CB1C-CF19-46F5-9AC9-A4D6E41AD03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B044E-6518-4693-81A9-F12843A8473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D648B-C44E-46FC-8348-879470FF400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AAA1-4C05-4FA1-A773-0E929C9FE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D59FF-994D-4DA9-BEF9-3707B09D389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216BF-BC22-4184-876A-7B997A438AE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Image 6" descr=""/>
          <p:cNvPicPr/>
          <p:nvPr/>
        </p:nvPicPr>
        <p:blipFill>
          <a:blip r:embed="rId2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5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400" spc="-1" strike="noStrike">
                <a:solidFill>
                  <a:srgbClr val="2fa17c"/>
                </a:solidFill>
                <a:latin typeface="Microsoft PhagsP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313" name="PlaceHolder 1"/>
          <p:cNvSpPr>
            <a:spLocks noGrp="1"/>
          </p:cNvSpPr>
          <p:nvPr>
            <p:ph type="dt" idx="52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sldNum" idx="53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9D1ED-FE1D-4BE6-891A-93588008C7DE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39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31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5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47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473" name="Image 5" descr=""/>
          <p:cNvPicPr/>
          <p:nvPr/>
        </p:nvPicPr>
        <p:blipFill>
          <a:blip r:embed="rId4"/>
          <a:stretch/>
        </p:blipFill>
        <p:spPr>
          <a:xfrm>
            <a:off x="3468600" y="396720"/>
            <a:ext cx="2206800" cy="215928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5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1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15" name="Image 5" descr=""/>
          <p:cNvPicPr/>
          <p:nvPr/>
        </p:nvPicPr>
        <p:blipFill>
          <a:blip r:embed="rId4"/>
          <a:stretch/>
        </p:blipFill>
        <p:spPr>
          <a:xfrm>
            <a:off x="7421400" y="189000"/>
            <a:ext cx="1471680" cy="1439640"/>
          </a:xfrm>
          <a:prstGeom prst="rect">
            <a:avLst/>
          </a:prstGeom>
          <a:ln w="0">
            <a:noFill/>
          </a:ln>
        </p:spPr>
      </p:pic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5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57" name="Image 5" descr=""/>
          <p:cNvPicPr/>
          <p:nvPr/>
        </p:nvPicPr>
        <p:blipFill>
          <a:blip r:embed="rId4"/>
          <a:stretch/>
        </p:blipFill>
        <p:spPr>
          <a:xfrm>
            <a:off x="3395520" y="404640"/>
            <a:ext cx="2352960" cy="216072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57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9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599" name="Image 5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566720" cy="1439640"/>
          </a:xfrm>
          <a:prstGeom prst="rect">
            <a:avLst/>
          </a:prstGeom>
          <a:ln w="0">
            <a:noFill/>
          </a:ln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58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4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41" name="Image 5" descr=""/>
          <p:cNvPicPr/>
          <p:nvPr/>
        </p:nvPicPr>
        <p:blipFill>
          <a:blip r:embed="rId4"/>
          <a:stretch/>
        </p:blipFill>
        <p:spPr>
          <a:xfrm>
            <a:off x="3444840" y="404640"/>
            <a:ext cx="2254320" cy="2160720"/>
          </a:xfrm>
          <a:prstGeom prst="rect">
            <a:avLst/>
          </a:prstGeom>
          <a:ln w="0">
            <a:noFill/>
          </a:ln>
        </p:spPr>
      </p:pic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dt" idx="59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68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683" name="Image 5" descr=""/>
          <p:cNvPicPr/>
          <p:nvPr/>
        </p:nvPicPr>
        <p:blipFill>
          <a:blip r:embed="rId4"/>
          <a:stretch/>
        </p:blipFill>
        <p:spPr>
          <a:xfrm>
            <a:off x="7419960" y="216000"/>
            <a:ext cx="1503360" cy="1439640"/>
          </a:xfrm>
          <a:prstGeom prst="rect">
            <a:avLst/>
          </a:prstGeom>
          <a:ln w="0">
            <a:noFill/>
          </a:ln>
        </p:spPr>
      </p:pic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0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3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24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25" name="Image 5" descr=""/>
          <p:cNvPicPr/>
          <p:nvPr/>
        </p:nvPicPr>
        <p:blipFill>
          <a:blip r:embed="rId4"/>
          <a:stretch/>
        </p:blipFill>
        <p:spPr>
          <a:xfrm>
            <a:off x="3506760" y="404640"/>
            <a:ext cx="2130480" cy="2160720"/>
          </a:xfrm>
          <a:prstGeom prst="rect">
            <a:avLst/>
          </a:prstGeom>
          <a:ln w="0">
            <a:noFill/>
          </a:ln>
        </p:spPr>
      </p:pic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61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76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767" name="Image 5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0920" cy="1439640"/>
          </a:xfrm>
          <a:prstGeom prst="rect">
            <a:avLst/>
          </a:prstGeom>
          <a:ln w="0">
            <a:noFill/>
          </a:ln>
        </p:spPr>
      </p:pic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 type="dt" idx="62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08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09" name="Image 5" descr=""/>
          <p:cNvPicPr/>
          <p:nvPr/>
        </p:nvPicPr>
        <p:blipFill>
          <a:blip r:embed="rId4"/>
          <a:stretch/>
        </p:blipFill>
        <p:spPr>
          <a:xfrm>
            <a:off x="3613320" y="404640"/>
            <a:ext cx="1930320" cy="2160720"/>
          </a:xfrm>
          <a:prstGeom prst="rect">
            <a:avLst/>
          </a:prstGeom>
          <a:ln w="0">
            <a:noFill/>
          </a:ln>
        </p:spPr>
      </p:pic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 type="dt" idx="63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5"/>
    <p:sldLayoutId id="2147484222" r:id="rId6"/>
    <p:sldLayoutId id="2147484223" r:id="rId7"/>
    <p:sldLayoutId id="2147484224" r:id="rId8"/>
    <p:sldLayoutId id="2147484225" r:id="rId9"/>
    <p:sldLayoutId id="2147484226" r:id="rId10"/>
    <p:sldLayoutId id="2147484227" r:id="rId11"/>
    <p:sldLayoutId id="2147484228" r:id="rId12"/>
    <p:sldLayoutId id="2147484229" r:id="rId13"/>
    <p:sldLayoutId id="2147484230" r:id="rId14"/>
    <p:sldLayoutId id="2147484231" r:id="rId15"/>
    <p:sldLayoutId id="2147484232" r:id="rId16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9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50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1851" name="Image 5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287360" cy="143964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 type="dt" idx="64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1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892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65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2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933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1934" name="Rectangle 5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2" descr="I:\DIRECTION_GENERALE\COMMUNICATION\COM INTERNE\REFORME_TERRITORIALE\Outils_enligne_intranet\modele_diaporama\img_ars.jpg"/>
          <p:cNvPicPr/>
          <p:nvPr/>
        </p:nvPicPr>
        <p:blipFill>
          <a:blip r:embed="rId4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 type="sldNum" idx="66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5B3FB-F86B-4959-8189-680F79B21F7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195480" indent="-1954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195480" indent="-19548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95480" indent="-19548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95480" indent="-1954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pic>
        <p:nvPicPr>
          <p:cNvPr id="15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0" y="2233440"/>
            <a:ext cx="8186760" cy="24260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I:\DIRECTION_GENERALE\COMMUNICATION\COM INTERNE\REFORME_TERRITORIALE\COM_EXTERNE\Diapo_ecran_accueil\logo_ARS_ALPC.jpg"/>
          <p:cNvPicPr/>
          <p:nvPr/>
        </p:nvPicPr>
        <p:blipFill>
          <a:blip r:embed="rId2"/>
          <a:stretch/>
        </p:blipFill>
        <p:spPr>
          <a:xfrm>
            <a:off x="203040" y="155520"/>
            <a:ext cx="2332080" cy="1498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I:\DIRECTION_GENERALE\COMMUNICATION\COM INTERNE\REFORME_TERRITORIALE\COM_EXTERNE\Signature_mail\img_signature_mail_2.jpg"/>
          <p:cNvPicPr/>
          <p:nvPr/>
        </p:nvPicPr>
        <p:blipFill>
          <a:blip r:embed="rId3"/>
          <a:stretch/>
        </p:blipFill>
        <p:spPr>
          <a:xfrm>
            <a:off x="2535120" y="636480"/>
            <a:ext cx="6337440" cy="524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I:\DIRECTION_GENERALE\COMMUNICATION\COM INTERNE\REFORME_TERRITORIALE\COM_EXTERNE\Diapo_ecran_accueil\visuel_ALPC.jpg"/>
          <p:cNvPicPr/>
          <p:nvPr/>
        </p:nvPicPr>
        <p:blipFill>
          <a:blip r:embed="rId4"/>
          <a:stretch/>
        </p:blipFill>
        <p:spPr>
          <a:xfrm>
            <a:off x="6622920" y="5427720"/>
            <a:ext cx="2521080" cy="14302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dt" idx="4"/>
          </p:nvPr>
        </p:nvSpPr>
        <p:spPr>
          <a:xfrm>
            <a:off x="202680" y="6330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0" y="0"/>
            <a:ext cx="8686800" cy="11239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I:\DIRECTION_GENERALE\COMMUNICATION\COM INTERNE\REFORME_TERRITORIALE\Outils_enligne_intranet\modele_diaporama\img_ars.jpg"/>
          <p:cNvPicPr/>
          <p:nvPr/>
        </p:nvPicPr>
        <p:blipFill>
          <a:blip r:embed="rId2"/>
          <a:stretch/>
        </p:blipFill>
        <p:spPr>
          <a:xfrm>
            <a:off x="0" y="5996160"/>
            <a:ext cx="1488960" cy="8618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600" spc="-1" strike="noStrike">
                <a:solidFill>
                  <a:srgbClr val="00808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3B3F4-D6A6-4455-8E06-37312CBBE7D0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6804000" y="549360"/>
            <a:ext cx="2160720" cy="1436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Image 6" descr=""/>
          <p:cNvPicPr/>
          <p:nvPr/>
        </p:nvPicPr>
        <p:blipFill>
          <a:blip r:embed="rId2"/>
          <a:stretch/>
        </p:blipFill>
        <p:spPr>
          <a:xfrm>
            <a:off x="34920" y="6021360"/>
            <a:ext cx="1488960" cy="1206360"/>
          </a:xfrm>
          <a:prstGeom prst="rect">
            <a:avLst/>
          </a:prstGeom>
          <a:ln w="0">
            <a:noFill/>
          </a:ln>
        </p:spPr>
      </p:pic>
      <p:pic>
        <p:nvPicPr>
          <p:cNvPr id="317" name="Image 3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1554120" cy="485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3990"/>
                </a:solidFill>
                <a:latin typeface="Microsoft PhagsPa"/>
              </a:rPr>
              <a:t>Click to edit the title text format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Click to edit the outline text format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1" marL="260280">
              <a:spcBef>
                <a:spcPts val="799"/>
              </a:spcBef>
              <a:buClr>
                <a:srgbClr val="31b564"/>
              </a:buClr>
              <a:buFont typeface="+mj-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con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2" marL="520920">
              <a:spcBef>
                <a:spcPts val="799"/>
              </a:spcBef>
              <a:buClr>
                <a:srgbClr val="2b399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Third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3" marL="781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our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4" marL="1042200">
              <a:spcBef>
                <a:spcPts val="799"/>
              </a:spcBef>
              <a:buClr>
                <a:srgbClr val="59595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Fif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5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ix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lvl="6" marL="1042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a17c"/>
                </a:solidFill>
                <a:latin typeface="Microsoft PhagsPa"/>
              </a:rPr>
              <a:t>Seventh Outline Level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6"/>
          </p:nvPr>
        </p:nvSpPr>
        <p:spPr>
          <a:xfrm>
            <a:off x="349200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csp/explore.cgi/avisrapportsdomaine?clefr=627" TargetMode="External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COTRIM NOUVELLE-AQUITAINE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17 octobre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103320" y="0"/>
            <a:ext cx="24429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7" name="Picture 3" descr=""/>
          <p:cNvPicPr/>
          <p:nvPr/>
        </p:nvPicPr>
        <p:blipFill>
          <a:blip r:embed="rId1"/>
          <a:srcRect l="33437" t="31668" r="16815" b="25001"/>
          <a:stretch/>
        </p:blipFill>
        <p:spPr>
          <a:xfrm>
            <a:off x="3240000" y="4068720"/>
            <a:ext cx="4578480" cy="2243160"/>
          </a:xfrm>
          <a:prstGeom prst="rect">
            <a:avLst/>
          </a:prstGeom>
          <a:ln w="0">
            <a:noFill/>
          </a:ln>
        </p:spPr>
      </p:pic>
      <p:sp>
        <p:nvSpPr>
          <p:cNvPr id="2008" name=""/>
          <p:cNvSpPr txBox="1"/>
          <p:nvPr/>
        </p:nvSpPr>
        <p:spPr>
          <a:xfrm>
            <a:off x="468360" y="169992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PRS c’est </a:t>
            </a:r>
            <a:r>
              <a:rPr b="1" lang="fr-FR" sz="3200" spc="-1" strike="noStrike">
                <a:solidFill>
                  <a:srgbClr val="000000"/>
                </a:solidFill>
                <a:latin typeface="Microsoft PhagsP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424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Cadre d’orientation stratégique (CO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10 ans : 2018-202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Schéma régional de santé (SR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000066"/>
                </a:solidFill>
                <a:latin typeface="Calibri"/>
              </a:rPr>
              <a:t>Programme régional d’accès à la prévention et soins (PRAPS) </a:t>
            </a:r>
            <a:r>
              <a:rPr b="0" lang="fr-FR" sz="2200" spc="-1" strike="noStrike">
                <a:solidFill>
                  <a:srgbClr val="000066"/>
                </a:solidFill>
                <a:latin typeface="Calibri"/>
              </a:rPr>
              <a:t>pour 5 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 txBox="1"/>
          <p:nvPr/>
        </p:nvSpPr>
        <p:spPr>
          <a:xfrm>
            <a:off x="539640" y="22478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Ce qui change avec le PRS de 2</a:t>
            </a:r>
            <a:r>
              <a:rPr b="1" lang="fr-FR" sz="2700" spc="-1" strike="noStrike" baseline="30000">
                <a:solidFill>
                  <a:srgbClr val="000000"/>
                </a:solidFill>
                <a:latin typeface="Microsoft PhagsPa"/>
              </a:rPr>
              <a:t>ème</a:t>
            </a:r>
            <a:r>
              <a:rPr b="1" lang="fr-FR" sz="2700" spc="-1" strike="noStrike">
                <a:solidFill>
                  <a:srgbClr val="000000"/>
                </a:solidFill>
                <a:latin typeface="Microsoft PhagsPa"/>
              </a:rPr>
              <a:t> générati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/>
          </p:nvPr>
        </p:nvSpPr>
        <p:spPr>
          <a:xfrm>
            <a:off x="611280" y="3068280"/>
            <a:ext cx="8424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COS plus prospectif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Un 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SRS uniq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Alors que l’ancien PRS comportait 3 schémas (prévention, organisation des soins, organisation médico-socia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Construit autour d’</a:t>
            </a:r>
            <a:r>
              <a:rPr b="1" lang="fr-FR" sz="2200" spc="-1" strike="noStrike">
                <a:solidFill>
                  <a:srgbClr val="2b3990"/>
                </a:solidFill>
                <a:latin typeface="Calibri"/>
              </a:rPr>
              <a:t>objectifs opérationnels</a:t>
            </a:r>
            <a:r>
              <a:rPr b="0" lang="fr-FR" sz="2200" spc="-1" strike="noStrike">
                <a:solidFill>
                  <a:srgbClr val="2b3990"/>
                </a:solidFill>
                <a:latin typeface="Calibri"/>
              </a:rPr>
              <a:t>, lisibles et évalu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Rectangle à coins arrondis 6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32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OUVEAU CADRE, NOUVEAUX ENJ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24000" y="22050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Microsoft PhagsPa"/>
              </a:rPr>
              <a:t>L’élaboration du PRS Nouvelle-Aquitaine s’appuie s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/>
          </p:nvPr>
        </p:nvSpPr>
        <p:spPr>
          <a:xfrm>
            <a:off x="399600" y="2565360"/>
            <a:ext cx="842508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diagnostic régional</a:t>
            </a: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, décliné en 12 volets territoriau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b3990"/>
                </a:solidFill>
                <a:latin typeface="Calibri"/>
              </a:rPr>
              <a:t>(territoires de démocratie sanit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 bilan des PRS des anciennes ré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Aquitaine, Limousin et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2b3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b3990"/>
                </a:solidFill>
                <a:latin typeface="Calibri"/>
              </a:rPr>
              <a:t>Une évaluation du PRS Poitou-Char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Rectangle à coins arrondis 5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Titre 1"/>
          <p:cNvSpPr/>
          <p:nvPr/>
        </p:nvSpPr>
        <p:spPr>
          <a:xfrm>
            <a:off x="395280" y="11592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</a:t>
            </a: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DÉMARCHE : ÉLABORATION</a:t>
            </a:r>
            <a:br>
              <a:rPr sz="1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Picture 2" descr=""/>
          <p:cNvPicPr/>
          <p:nvPr/>
        </p:nvPicPr>
        <p:blipFill>
          <a:blip r:embed="rId1"/>
          <a:stretch/>
        </p:blipFill>
        <p:spPr>
          <a:xfrm>
            <a:off x="6012000" y="5230800"/>
            <a:ext cx="1655640" cy="161784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2" descr=""/>
          <p:cNvPicPr/>
          <p:nvPr/>
        </p:nvPicPr>
        <p:blipFill>
          <a:blip r:embed="rId2"/>
          <a:stretch/>
        </p:blipFill>
        <p:spPr>
          <a:xfrm rot="467400">
            <a:off x="6746400" y="3472920"/>
            <a:ext cx="1190880" cy="16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 txBox="1"/>
          <p:nvPr/>
        </p:nvSpPr>
        <p:spPr>
          <a:xfrm>
            <a:off x="23976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Microsoft PhagsPa"/>
              </a:rPr>
              <a:t>Le cadre d’orientation stratégique (le C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S ORIENTATION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"/>
          <p:cNvSpPr/>
          <p:nvPr/>
        </p:nvSpPr>
        <p:spPr>
          <a:xfrm>
            <a:off x="3924360" y="2975040"/>
            <a:ext cx="3971880" cy="15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8080"/>
                </a:solidFill>
                <a:latin typeface="Calibri"/>
              </a:rPr>
              <a:t>Un objectif clé de voûte</a:t>
            </a:r>
            <a:r>
              <a:rPr b="1" i="1" lang="fr-FR" sz="1800" spc="-1" strike="noStrike">
                <a:solidFill>
                  <a:srgbClr val="9bbb59"/>
                </a:solidFill>
                <a:latin typeface="Calibri"/>
              </a:rPr>
              <a:t>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mplifier la transformation du système de santé pour garantir la qualité des réponses aux besoins et l’accessibilité globale au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665440" cy="132552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3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989080" cy="127332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4" descr=""/>
          <p:cNvPicPr/>
          <p:nvPr/>
        </p:nvPicPr>
        <p:blipFill>
          <a:blip r:embed="rId3"/>
          <a:stretch/>
        </p:blipFill>
        <p:spPr>
          <a:xfrm>
            <a:off x="324000" y="5187960"/>
            <a:ext cx="2679480" cy="119376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5" descr=""/>
          <p:cNvPicPr/>
          <p:nvPr/>
        </p:nvPicPr>
        <p:blipFill>
          <a:blip r:embed="rId4"/>
          <a:stretch/>
        </p:blipFill>
        <p:spPr>
          <a:xfrm>
            <a:off x="3282840" y="5327640"/>
            <a:ext cx="2778120" cy="112572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6" descr=""/>
          <p:cNvPicPr/>
          <p:nvPr/>
        </p:nvPicPr>
        <p:blipFill>
          <a:blip r:embed="rId5"/>
          <a:stretch/>
        </p:blipFill>
        <p:spPr>
          <a:xfrm>
            <a:off x="6300720" y="5119560"/>
            <a:ext cx="2685960" cy="121140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4"/>
          <p:cNvSpPr/>
          <p:nvPr/>
        </p:nvSpPr>
        <p:spPr>
          <a:xfrm>
            <a:off x="7172280" y="-27000"/>
            <a:ext cx="1944720" cy="172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/>
          </p:nvPr>
        </p:nvSpPr>
        <p:spPr>
          <a:xfrm>
            <a:off x="298440" y="1766520"/>
            <a:ext cx="8424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cinq orientations stratégiques du PRS NA …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éclinées en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résultats à atteindr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1" lang="fr-FR" sz="2400" spc="-1" strike="noStrike">
                <a:solidFill>
                  <a:srgbClr val="2fa17c"/>
                </a:solidFill>
                <a:latin typeface="Calibri"/>
              </a:rPr>
              <a:t> </a:t>
            </a:r>
            <a:r>
              <a:rPr b="1" lang="fr-FR" sz="2400" spc="-1" strike="noStrike" u="sng">
                <a:solidFill>
                  <a:srgbClr val="008080"/>
                </a:solidFill>
                <a:uFillTx/>
                <a:latin typeface="Calibri"/>
              </a:rPr>
              <a:t>indicateurs trac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a politique régionale, dans le cadre de la démarche globale de suivi et d’évaluation du PRS NA</a:t>
            </a:r>
            <a:endParaRPr b="0" lang="en-US" sz="24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3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Les orientations stratégiqu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Méthode d’é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5" name="Picture 2" descr=""/>
          <p:cNvPicPr/>
          <p:nvPr/>
        </p:nvPicPr>
        <p:blipFill>
          <a:blip r:embed="rId1"/>
          <a:srcRect l="34063" t="44168" r="20079" b="45001"/>
          <a:stretch/>
        </p:blipFill>
        <p:spPr>
          <a:xfrm>
            <a:off x="768240" y="4896000"/>
            <a:ext cx="7485120" cy="995040"/>
          </a:xfrm>
          <a:prstGeom prst="rect">
            <a:avLst/>
          </a:prstGeom>
          <a:ln w="0">
            <a:noFill/>
          </a:ln>
        </p:spPr>
      </p:pic>
      <p:sp>
        <p:nvSpPr>
          <p:cNvPr id="2036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à coins arrondis 5"/>
          <p:cNvSpPr/>
          <p:nvPr/>
        </p:nvSpPr>
        <p:spPr>
          <a:xfrm>
            <a:off x="-452520" y="-68400"/>
            <a:ext cx="7416720" cy="15130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</a:t>
            </a:r>
            <a:br>
              <a:rPr sz="2800"/>
            </a:b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STRATÉGIE GLOBALE SUIVI ET ÉVALUATIO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à coins arrondis 7"/>
          <p:cNvSpPr/>
          <p:nvPr/>
        </p:nvSpPr>
        <p:spPr>
          <a:xfrm>
            <a:off x="1782720" y="1863720"/>
            <a:ext cx="3630600" cy="29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ultats attendus à 5 et 1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à coins arrondis 9"/>
          <p:cNvSpPr/>
          <p:nvPr/>
        </p:nvSpPr>
        <p:spPr>
          <a:xfrm>
            <a:off x="2614680" y="2543040"/>
            <a:ext cx="1966680" cy="92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Orientations stratég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à coins arrondis 40"/>
          <p:cNvSpPr/>
          <p:nvPr/>
        </p:nvSpPr>
        <p:spPr>
          <a:xfrm>
            <a:off x="2139840" y="4129200"/>
            <a:ext cx="299736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sultats  attendu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à coins arrondis 82"/>
          <p:cNvSpPr/>
          <p:nvPr/>
        </p:nvSpPr>
        <p:spPr>
          <a:xfrm>
            <a:off x="2511360" y="4865760"/>
            <a:ext cx="2254320" cy="338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à coins arrondis 84"/>
          <p:cNvSpPr/>
          <p:nvPr/>
        </p:nvSpPr>
        <p:spPr>
          <a:xfrm>
            <a:off x="2684520" y="5602320"/>
            <a:ext cx="1908000" cy="71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Modalités de mise en œuvre (Leviers, actions,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à coins arrondis 26"/>
          <p:cNvSpPr/>
          <p:nvPr/>
        </p:nvSpPr>
        <p:spPr>
          <a:xfrm>
            <a:off x="5867280" y="5140440"/>
            <a:ext cx="1378080" cy="85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proces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27"/>
          <p:cNvSpPr/>
          <p:nvPr/>
        </p:nvSpPr>
        <p:spPr>
          <a:xfrm>
            <a:off x="519120" y="234936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fa17c"/>
                </a:solidFill>
                <a:latin typeface="Calibri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6" name="Connecteur droit avec flèche 45"/>
          <p:cNvCxnSpPr/>
          <p:nvPr/>
        </p:nvCxnSpPr>
        <p:spPr>
          <a:xfrm flipH="1">
            <a:off x="5044320" y="5256000"/>
            <a:ext cx="55476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047" name="Flèche droite 4"/>
          <p:cNvSpPr/>
          <p:nvPr/>
        </p:nvSpPr>
        <p:spPr>
          <a:xfrm rot="16200000">
            <a:off x="3483000" y="5029200"/>
            <a:ext cx="311040" cy="76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13"/>
          <p:cNvSpPr/>
          <p:nvPr/>
        </p:nvSpPr>
        <p:spPr>
          <a:xfrm>
            <a:off x="636480" y="4645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504d"/>
                </a:solidFill>
                <a:latin typeface="Calibri"/>
              </a:rPr>
              <a:t>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Flèche droite 49"/>
          <p:cNvSpPr/>
          <p:nvPr/>
        </p:nvSpPr>
        <p:spPr>
          <a:xfrm rot="16200000">
            <a:off x="3391560" y="3369240"/>
            <a:ext cx="395280" cy="765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Connecteur droit 15"/>
          <p:cNvSpPr/>
          <p:nvPr/>
        </p:nvSpPr>
        <p:spPr>
          <a:xfrm flipV="1">
            <a:off x="3638520" y="4590720"/>
            <a:ext cx="0" cy="2746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Connecteur droit 56"/>
          <p:cNvSpPr/>
          <p:nvPr/>
        </p:nvSpPr>
        <p:spPr>
          <a:xfrm flipV="1">
            <a:off x="3598920" y="2155680"/>
            <a:ext cx="0" cy="387360"/>
          </a:xfrm>
          <a:prstGeom prst="line">
            <a:avLst/>
          </a:prstGeom>
          <a:ln w="3816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à coins arrondis 65"/>
          <p:cNvSpPr/>
          <p:nvPr/>
        </p:nvSpPr>
        <p:spPr>
          <a:xfrm>
            <a:off x="6156360" y="1889280"/>
            <a:ext cx="123336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rac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à coins arrondis 67"/>
          <p:cNvSpPr/>
          <p:nvPr/>
        </p:nvSpPr>
        <p:spPr>
          <a:xfrm>
            <a:off x="5867280" y="3900600"/>
            <a:ext cx="161316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Indicate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e résul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Connecteur droit avec flèche 118"/>
          <p:cNvCxnSpPr/>
          <p:nvPr/>
        </p:nvCxnSpPr>
        <p:spPr>
          <a:xfrm flipH="1">
            <a:off x="5017320" y="2531880"/>
            <a:ext cx="996120" cy="1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cxnSp>
        <p:nvCxnSpPr>
          <p:cNvPr id="2055" name="Connecteur droit avec flèche 124"/>
          <p:cNvCxnSpPr/>
          <p:nvPr/>
        </p:nvCxnSpPr>
        <p:spPr>
          <a:xfrm flipH="1">
            <a:off x="5320800" y="4360680"/>
            <a:ext cx="38808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056" name="Connecteur droit avec flèche 125"/>
          <p:cNvCxnSpPr/>
          <p:nvPr/>
        </p:nvCxnSpPr>
        <p:spPr>
          <a:xfrm flipV="1">
            <a:off x="6536880" y="3068280"/>
            <a:ext cx="1080" cy="550080"/>
          </a:xfrm>
          <a:prstGeom prst="straightConnector1">
            <a:avLst/>
          </a:prstGeom>
          <a:ln w="38160">
            <a:solidFill>
              <a:srgbClr val="2fa17c"/>
            </a:solidFill>
            <a:miter/>
            <a:tailEnd len="med" type="arrow" w="med"/>
          </a:ln>
        </p:spPr>
      </p:cxnSp>
      <p:sp>
        <p:nvSpPr>
          <p:cNvPr id="2057" name="Accolade fermante 12"/>
          <p:cNvSpPr/>
          <p:nvPr/>
        </p:nvSpPr>
        <p:spPr>
          <a:xfrm>
            <a:off x="7680240" y="3705120"/>
            <a:ext cx="216000" cy="23432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2343240"/>
              <a:gd name="textAreaBottom" fmla="*/ 2337840 h 234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16200" y="10800"/>
                  <a:pt x="21600" y="10800"/>
                </a:cubicBezTo>
                <a:cubicBezTo>
                  <a:pt x="162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Accolade fermante 28"/>
          <p:cNvSpPr/>
          <p:nvPr/>
        </p:nvSpPr>
        <p:spPr>
          <a:xfrm>
            <a:off x="7581960" y="1879560"/>
            <a:ext cx="217440" cy="1266840"/>
          </a:xfrm>
          <a:custGeom>
            <a:avLst/>
            <a:gdLst>
              <a:gd name="textAreaLeft" fmla="*/ 0 w 217440"/>
              <a:gd name="textAreaRight" fmla="*/ 78480 w 217440"/>
              <a:gd name="textAreaTop" fmla="*/ 5400 h 1266840"/>
              <a:gd name="textAreaBottom" fmla="*/ 1261440 h 126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5"/>
                  <a:pt x="10800" y="309"/>
                </a:cubicBezTo>
                <a:lnTo>
                  <a:pt x="10800" y="10491"/>
                </a:lnTo>
                <a:cubicBezTo>
                  <a:pt x="10800" y="10646"/>
                  <a:pt x="16200" y="10800"/>
                  <a:pt x="21600" y="10800"/>
                </a:cubicBezTo>
                <a:cubicBezTo>
                  <a:pt x="16200" y="10800"/>
                  <a:pt x="10800" y="10955"/>
                  <a:pt x="10800" y="11109"/>
                </a:cubicBezTo>
                <a:lnTo>
                  <a:pt x="10800" y="21291"/>
                </a:lnTo>
                <a:cubicBezTo>
                  <a:pt x="10800" y="2144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2f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ZoneTexte 14"/>
          <p:cNvSpPr/>
          <p:nvPr/>
        </p:nvSpPr>
        <p:spPr>
          <a:xfrm>
            <a:off x="7896240" y="234936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ZoneTexte 30"/>
          <p:cNvSpPr/>
          <p:nvPr/>
        </p:nvSpPr>
        <p:spPr>
          <a:xfrm>
            <a:off x="8147160" y="47005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1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mplifier les actions sur les déterminants de santé et la promotion de la santé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Diminution de l’obésité et du surpoids dans la population de Nouvelle-Aquitaine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►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s :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Part des enfants obèses et en surcharge pondérale en classe de 6ème en Nouvelle-Aquitaine.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3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Microsoft PhagsPa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/>
          </p:nvPr>
        </p:nvSpPr>
        <p:spPr>
          <a:xfrm>
            <a:off x="298440" y="2133720"/>
            <a:ext cx="842472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Résultats à atteindre et indicateurs traceurs de la politique régionale de santé à 10 an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1f497d"/>
                </a:solidFill>
                <a:latin typeface="Calibri"/>
              </a:rPr>
              <a:t>Illustration : 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Orientation stratégique 2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Promouvoir un accès équitable à la santé sur les territoires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Résultat attendu</a:t>
            </a: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Diminution de la mortalité prématurée évitable  au niveau de la région et de ses départements </a:t>
            </a: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dicateur 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  <a:ea typeface="Arial"/>
              </a:rPr>
              <a:t>►</a:t>
            </a: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Taux de mortalité prématuré évitable par les actions de prévention</a:t>
            </a:r>
            <a:r>
              <a:rPr b="0" lang="fr-FR" sz="1800" spc="-1" strike="noStrike">
                <a:solidFill>
                  <a:srgbClr val="1f497d"/>
                </a:solidFill>
                <a:latin typeface="Microsoft PhagsPa"/>
              </a:rPr>
              <a:t> </a:t>
            </a:r>
            <a:endParaRPr b="0" lang="en-US" sz="1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2fa17c"/>
                </a:solidFill>
                <a:latin typeface="Calibri"/>
              </a:rPr>
              <a:t>I</a:t>
            </a:r>
            <a:endParaRPr b="0" lang="en-US" sz="7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067" name="Rectangle à coins arrondis 5"/>
          <p:cNvSpPr/>
          <p:nvPr/>
        </p:nvSpPr>
        <p:spPr>
          <a:xfrm>
            <a:off x="-468360" y="-27000"/>
            <a:ext cx="7632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S - résultats attendus et 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à coins arrondis 7"/>
          <p:cNvSpPr/>
          <p:nvPr/>
        </p:nvSpPr>
        <p:spPr>
          <a:xfrm>
            <a:off x="-455760" y="-27000"/>
            <a:ext cx="7417080" cy="1511280"/>
          </a:xfrm>
          <a:prstGeom prst="roundRect">
            <a:avLst>
              <a:gd name="adj" fmla="val 16667"/>
            </a:avLst>
          </a:prstGeom>
          <a:solidFill>
            <a:srgbClr val="2fa17c"/>
          </a:solidFill>
          <a:ln w="25560">
            <a:solidFill>
              <a:srgbClr val="31b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1- SNS ET P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2"/>
          <p:cNvSpPr/>
          <p:nvPr/>
        </p:nvSpPr>
        <p:spPr>
          <a:xfrm>
            <a:off x="395280" y="17510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SNS : 4 prior</a:t>
            </a:r>
            <a:r>
              <a:rPr b="0" lang="fr-FR" sz="2800" spc="-1" strike="noStrike">
                <a:solidFill>
                  <a:srgbClr val="008080"/>
                </a:solidFill>
                <a:latin typeface="Calibri"/>
              </a:rPr>
              <a:t>i</a:t>
            </a:r>
            <a:r>
              <a:rPr b="1" lang="fr-FR" sz="2800" spc="-1" strike="noStrike">
                <a:solidFill>
                  <a:srgbClr val="008080"/>
                </a:solidFill>
                <a:latin typeface="Calibri"/>
              </a:rPr>
              <a:t>tés déjà déclinées au sein du projet de P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395280" y="2760840"/>
            <a:ext cx="707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prévention et la promotion de la santé, tout au long de la vie et dans tous les mil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lutte contre les inégalités sociales et territoriales d’accès à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a nécessité d’accroître la pertinence et la qualité des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L’innovation organisationnelle, médicale, technologique ou numérique mise au service de tous et répondre aux besoins prioritaires en san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82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Espace réservé de la date 1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à coins arrondis 9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itre 1"/>
          <p:cNvSpPr/>
          <p:nvPr/>
        </p:nvSpPr>
        <p:spPr>
          <a:xfrm>
            <a:off x="39528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PRS NOUVELLE-AQUITAINE : </a:t>
            </a:r>
            <a:br>
              <a:rPr sz="2000"/>
            </a:b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’INTÉGRATION DE LA STRATÉ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NATIONAL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7" name="Groupe 15"/>
          <p:cNvGrpSpPr/>
          <p:nvPr/>
        </p:nvGrpSpPr>
        <p:grpSpPr>
          <a:xfrm>
            <a:off x="6716880" y="3825720"/>
            <a:ext cx="1498320" cy="1900440"/>
            <a:chOff x="6716880" y="3825720"/>
            <a:chExt cx="1498320" cy="1900440"/>
          </a:xfrm>
        </p:grpSpPr>
        <p:pic>
          <p:nvPicPr>
            <p:cNvPr id="2078" name="Picture 4" descr=""/>
            <p:cNvPicPr/>
            <p:nvPr/>
          </p:nvPicPr>
          <p:blipFill>
            <a:blip r:embed="rId1"/>
            <a:srcRect l="34069" t="10031" r="32970" b="6945"/>
            <a:stretch/>
          </p:blipFill>
          <p:spPr>
            <a:xfrm>
              <a:off x="6868080" y="3825720"/>
              <a:ext cx="1156320" cy="19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9" name="Rectangle 14" descr=""/>
            <p:cNvPicPr/>
            <p:nvPr/>
          </p:nvPicPr>
          <p:blipFill>
            <a:blip r:embed="rId2"/>
            <a:stretch/>
          </p:blipFill>
          <p:spPr>
            <a:xfrm>
              <a:off x="6716880" y="4205880"/>
              <a:ext cx="1498320" cy="147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0" name="Titre 1"/>
          <p:cNvGrpSpPr/>
          <p:nvPr/>
        </p:nvGrpSpPr>
        <p:grpSpPr>
          <a:xfrm>
            <a:off x="-781200" y="-49320"/>
            <a:ext cx="7688520" cy="1994040"/>
            <a:chOff x="-781200" y="-49320"/>
            <a:chExt cx="7688520" cy="1994040"/>
          </a:xfrm>
        </p:grpSpPr>
        <p:pic>
          <p:nvPicPr>
            <p:cNvPr id="2081" name="Titre 1" descr=""/>
            <p:cNvPicPr/>
            <p:nvPr/>
          </p:nvPicPr>
          <p:blipFill>
            <a:blip r:embed="rId3"/>
            <a:stretch/>
          </p:blipFill>
          <p:spPr>
            <a:xfrm>
              <a:off x="-781200" y="-49320"/>
              <a:ext cx="76885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2" name=""/>
            <p:cNvSpPr/>
            <p:nvPr/>
          </p:nvSpPr>
          <p:spPr>
            <a:xfrm>
              <a:off x="-662040" y="68400"/>
              <a:ext cx="7443720" cy="17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717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076400"/>
                  <a:tab algn="l" pos="2152800"/>
                  <a:tab algn="l" pos="3228840"/>
                  <a:tab algn="l" pos="4305240"/>
                  <a:tab algn="l" pos="5381640"/>
                  <a:tab algn="l" pos="6458040"/>
                  <a:tab algn="l" pos="7534440"/>
                  <a:tab algn="l" pos="8610480"/>
                  <a:tab algn="l" pos="9686880"/>
                  <a:tab algn="l" pos="10763280"/>
                </a:tabLst>
              </a:pP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	</a:t>
              </a:r>
              <a:r>
                <a:rPr b="1" lang="fr-FR" sz="3100" spc="-1" strike="noStrike">
                  <a:solidFill>
                    <a:srgbClr val="ffffff"/>
                  </a:solidFill>
                  <a:latin typeface="Microsoft PhagsPa"/>
                </a:rPr>
                <a:t>LE </a:t>
              </a:r>
              <a:r>
                <a:rPr b="1" lang="fr-FR" sz="3200" spc="-1" strike="noStrike">
                  <a:solidFill>
                    <a:srgbClr val="ffffff"/>
                  </a:solidFill>
                  <a:latin typeface="Microsoft PhagsPa"/>
                </a:rPr>
                <a:t>SCHÉMA RÉGIONAL DE SANTÉ : ETAT D’AVANC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ZoneTexte 2"/>
          <p:cNvSpPr/>
          <p:nvPr/>
        </p:nvSpPr>
        <p:spPr>
          <a:xfrm>
            <a:off x="250920" y="2173320"/>
            <a:ext cx="82818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Des productions thématiques issues de la conce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lèche droite 4"/>
          <p:cNvSpPr/>
          <p:nvPr/>
        </p:nvSpPr>
        <p:spPr>
          <a:xfrm>
            <a:off x="176364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Flèche droite 5"/>
          <p:cNvSpPr/>
          <p:nvPr/>
        </p:nvSpPr>
        <p:spPr>
          <a:xfrm>
            <a:off x="3921120" y="427680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ZoneTexte 7"/>
          <p:cNvSpPr/>
          <p:nvPr/>
        </p:nvSpPr>
        <p:spPr>
          <a:xfrm>
            <a:off x="250920" y="3322800"/>
            <a:ext cx="15127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31 groupes de travail / 94 réunions  / 165 parten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ZoneTexte 8"/>
          <p:cNvSpPr/>
          <p:nvPr/>
        </p:nvSpPr>
        <p:spPr>
          <a:xfrm>
            <a:off x="2365200" y="3335400"/>
            <a:ext cx="15559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Relecture, modification, restructuration des contenus thémat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ZoneTexte 9"/>
          <p:cNvSpPr/>
          <p:nvPr/>
        </p:nvSpPr>
        <p:spPr>
          <a:xfrm>
            <a:off x="4643280" y="3336840"/>
            <a:ext cx="1433520" cy="1554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Document  de travail interméd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1f497d"/>
                </a:solidFill>
                <a:latin typeface="Calibri"/>
              </a:rPr>
              <a:t>5 axes (OS) - 25 thè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ZoneTexte 10"/>
          <p:cNvSpPr/>
          <p:nvPr/>
        </p:nvSpPr>
        <p:spPr>
          <a:xfrm>
            <a:off x="6443640" y="3336840"/>
            <a:ext cx="1771560" cy="30708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f497d"/>
                </a:solidFill>
                <a:latin typeface="Calibri"/>
              </a:rPr>
              <a:t>Projet de S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Flèche droite 11"/>
          <p:cNvSpPr/>
          <p:nvPr/>
        </p:nvSpPr>
        <p:spPr>
          <a:xfrm>
            <a:off x="6076800" y="4240080"/>
            <a:ext cx="57636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Ellipse 16"/>
          <p:cNvSpPr/>
          <p:nvPr/>
        </p:nvSpPr>
        <p:spPr>
          <a:xfrm>
            <a:off x="5772240" y="3206880"/>
            <a:ext cx="2336760" cy="2303280"/>
          </a:xfrm>
          <a:prstGeom prst="ellipse">
            <a:avLst/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716C4-B2D0-4BCB-8D78-D18B6D431286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169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1122480" y="777960"/>
          <a:ext cx="6980040" cy="6114960"/>
        </p:xfrm>
        <a:graphic>
          <a:graphicData uri="http://schemas.openxmlformats.org/drawingml/2006/table">
            <a:tbl>
              <a:tblPr/>
              <a:tblGrid>
                <a:gridCol w="6980040"/>
              </a:tblGrid>
              <a:tr h="7016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1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STRATÉGIE NATIONALE DE SANTÉ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- DR VÉRONIQUE GILLERON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1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2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PPEL A PROJET ARS ANNUEL POUR DÉVELOPPER LES ACTIONS DE PRÉVENTION HORS LES MURS PAR LES ÉTABLISSEMENTS DE SAN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hristophe CAILLIEREZ (DIRECTION DE LA SANTÉ PUBLIQUE – ARS 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3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OJET RÉGIONAL DE SANTÉ NOUVELLE-AQUITAINE : SON ACTUAL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ISABELLE JAM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12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4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ES CONTRÔLES T2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AMPAGNE DE CONTRÔLE 2017 – 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RÉSENTATION DE L’ÉTUDE CRIMA – DR ELISABETH CAPDENAT-RAYMO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MODALITÉS DE CONTRÔLES – DR  VÉRONIQUE GILLER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200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5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POINT SUR LES GROUPES DE TRAVAIL DU COTR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CORINNE ABA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6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CONFIDENTIALITÉ DES DONNÉES : RAPPEL DE LA RÉG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R PAUL CHA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8160">
                <a:tc>
                  <a:txBody>
                    <a:bodyPr lIns="30600" rIns="30600" tIns="0" bIns="0" anchor="t">
                      <a:noAutofit/>
                    </a:bodyPr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buSzPct val="102837"/>
                        <a:buBlip>
                          <a:blip r:embed="rId7"/>
                        </a:buBlip>
                        <a:tabLst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ACTUALITÉ 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     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LAMDA, ENC, EMOIS-ADELF, JOURNÉES DU GRAND SUD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20800" algn="just">
                        <a:lnSpc>
                          <a:spcPct val="115000"/>
                        </a:lnSpc>
                        <a:tabLst>
                          <a:tab algn="l" pos="0"/>
                          <a:tab algn="l" pos="592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                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DATES DES PROCHAINES REUNIONS PLENIERES DU COTRIM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à coins arrondis 7"/>
          <p:cNvSpPr/>
          <p:nvPr/>
        </p:nvSpPr>
        <p:spPr>
          <a:xfrm>
            <a:off x="-468360" y="-27000"/>
            <a:ext cx="7416720" cy="1511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Microsoft PhagsPa"/>
              </a:rPr>
              <a:t>               </a:t>
            </a:r>
            <a:r>
              <a:rPr b="1" lang="fr-FR" sz="2400" spc="-1" strike="noStrike">
                <a:solidFill>
                  <a:srgbClr val="ffffff"/>
                </a:solidFill>
                <a:latin typeface="Microsoft PhagsPa"/>
              </a:rPr>
              <a:t>PRS Nouvelle-Aquita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          </a:t>
            </a:r>
            <a:r>
              <a:rPr b="1" lang="fr-FR" sz="3200" spc="-1" strike="noStrike">
                <a:solidFill>
                  <a:srgbClr val="ffffff"/>
                </a:solidFill>
                <a:latin typeface="Microsoft PhagsPa"/>
              </a:rPr>
              <a:t>Le Calend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itre 1"/>
          <p:cNvSpPr/>
          <p:nvPr/>
        </p:nvSpPr>
        <p:spPr>
          <a:xfrm>
            <a:off x="3952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4" name=""/>
          <p:cNvGraphicFramePr/>
          <p:nvPr/>
        </p:nvGraphicFramePr>
        <p:xfrm>
          <a:off x="826920" y="2924280"/>
          <a:ext cx="7091640" cy="2131920"/>
        </p:xfrm>
        <a:graphic>
          <a:graphicData uri="http://schemas.openxmlformats.org/drawingml/2006/table">
            <a:tbl>
              <a:tblPr/>
              <a:tblGrid>
                <a:gridCol w="2376720"/>
                <a:gridCol w="471492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. – 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suite relecture / mise en for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s de travail intermédiaires P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.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1 avant intégration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.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 de PRS V2 intégrant les orientations S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. – Avril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tion lég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 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justement PRS et pub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5" name="Rectangle 1"/>
          <p:cNvSpPr/>
          <p:nvPr/>
        </p:nvSpPr>
        <p:spPr>
          <a:xfrm>
            <a:off x="409680" y="17733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80"/>
                </a:solidFill>
                <a:latin typeface="Calibri"/>
              </a:rPr>
              <a:t>Calendrier amendé d’élaboration du PRS Nouvelle-Aquit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Espace réservé de la date 2"/>
          <p:cNvSpPr/>
          <p:nvPr/>
        </p:nvSpPr>
        <p:spPr>
          <a:xfrm>
            <a:off x="349236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2fa17c"/>
                </a:solidFill>
                <a:latin typeface="Microsoft PhagsPa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617400" y="2943000"/>
            <a:ext cx="75693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LES CONTRÔLES T2A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32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17EF4-5C1E-49EF-A8C0-C66299A78F65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312560"/>
            <a:ext cx="83329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thèmes retenus au plan régional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actes et consultations externes facturés en hospitalisation de jour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s séjours avec comorbidités pour lesquels le ciblage s’est orienté sur le niveau de sévérité 3 et 4 (voire 2) (thème sanctionnable)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e codage du D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ériode contrôlée : du 1</a:t>
            </a:r>
            <a:r>
              <a:rPr b="0" lang="fr-FR" sz="2800" spc="-1" strike="noStrike" baseline="30000">
                <a:solidFill>
                  <a:srgbClr val="000066"/>
                </a:solidFill>
                <a:latin typeface="Calibri"/>
              </a:rPr>
              <a:t>er</a:t>
            </a: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 mars au 31 décembre 2016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1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21013-25F7-4048-93D0-802AB97DC41F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icrosoft PhagsPa"/>
              </a:rPr>
              <a:t>CAMPAGNE DE CONTRÔLE 2017</a:t>
            </a:r>
            <a:endParaRPr b="0" lang="en-US" sz="40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252360" y="1312560"/>
            <a:ext cx="802008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17 établissements contrôlés 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: 1 clinique privée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harente Maritim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rrèze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Gironde : 3 cliniques privées, 1 ESPIC, 1 CLCC,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Lot et Garonne : 2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yrénées Atlantiques : 1 CH, 3 cliniques privé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ux Sèvres : 1 CH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Microsoft PhagsPa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F2AE-4607-4EE4-952D-B6F3C9962A9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312840" y="2433600"/>
            <a:ext cx="78897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POINT SUR LES GROUPES DE TRAVAIL</a:t>
            </a:r>
            <a:br>
              <a:rPr sz="39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CORINNE ABADIE</a:t>
            </a:r>
            <a:br>
              <a:rPr sz="2500"/>
            </a:b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Espace réservé du numéro de diapositiv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FC778-4689-4AE6-A3D4-41DA6F17F448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Microsoft PhagsPa"/>
              </a:rPr>
              <a:t>GROUPES DE TRAVAIL COTRIM NA</a:t>
            </a:r>
            <a:endParaRPr b="0" lang="en-US" sz="4400" spc="-1" strike="noStrike">
              <a:solidFill>
                <a:srgbClr val="2b3990"/>
              </a:solidFill>
              <a:latin typeface="Microsoft PhagsP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6840" y="1564920"/>
            <a:ext cx="781524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s principes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Objectif : travailler sur la qualité des données et sur l’analyse du champ en fonction des thématiques définies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4 groupes, 1 par champ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2 dates « bloquées » </a:t>
            </a:r>
            <a:endParaRPr b="0" lang="en-US" sz="2800" spc="-1" strike="noStrike">
              <a:solidFill>
                <a:srgbClr val="2fa17c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16 novembre et 7 décembre de 8 à 18h salle 353 (capacité 16p)  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lvl="1" marL="508680" indent="-40680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Groupe psychiatrie 18 octobre et 22 novembre 2017</a:t>
            </a:r>
            <a:endParaRPr b="0" lang="en-US" sz="2400" spc="-1" strike="noStrike">
              <a:solidFill>
                <a:srgbClr val="31b564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fa17c"/>
              </a:solidFill>
              <a:latin typeface="Microsoft PhagsPa"/>
            </a:endParaRPr>
          </a:p>
        </p:txBody>
      </p:sp>
      <p:sp>
        <p:nvSpPr>
          <p:cNvPr id="2109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036B7-3803-414F-A722-25CF5C803A79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M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F8150-F12E-4BE8-8EA7-0AA32187C2A1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3" name=""/>
          <p:cNvGraphicFramePr/>
          <p:nvPr/>
        </p:nvGraphicFramePr>
        <p:xfrm>
          <a:off x="590400" y="2697120"/>
          <a:ext cx="7583760" cy="2475000"/>
        </p:xfrm>
        <a:graphic>
          <a:graphicData uri="http://schemas.openxmlformats.org/drawingml/2006/table">
            <a:tbl>
              <a:tblPr/>
              <a:tblGrid>
                <a:gridCol w="3289320"/>
                <a:gridCol w="429444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BERGEAL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Denis REVIRON - Cliniques NAVARRE - MARZET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Anne Marie RULLION PAC SOO  - CH AGEN-NERAC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etab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435A5-0392-4AB4-AF76-89D559E13193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609480" y="2549520"/>
          <a:ext cx="7810560" cy="2128680"/>
        </p:xfrm>
        <a:graphic>
          <a:graphicData uri="http://schemas.openxmlformats.org/drawingml/2006/table">
            <a:tbl>
              <a:tblPr/>
              <a:tblGrid>
                <a:gridCol w="3630600"/>
                <a:gridCol w="4179960"/>
              </a:tblGrid>
              <a:tr h="5616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mmanuelle  BERGEAL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080">
                <a:tc row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Nathalie CABON-ASENCIO – DIM MSP Bagatelle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S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4EBD5-245A-4159-9C1B-26533F640CAF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569880" y="2697120"/>
          <a:ext cx="8029440" cy="1847880"/>
        </p:xfrm>
        <a:graphic>
          <a:graphicData uri="http://schemas.openxmlformats.org/drawingml/2006/table">
            <a:tbl>
              <a:tblPr/>
              <a:tblGrid>
                <a:gridCol w="3343320"/>
                <a:gridCol w="4686120"/>
              </a:tblGrid>
              <a:tr h="5090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80"/>
                    </a:solidFill>
                  </a:tcPr>
                </a:tc>
              </a:tr>
              <a:tr h="239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Dr Béatrice JANVOIE-OUILLET  - GH LA ROCHELLE RE-AUNIS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03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PERRET (étab. privés ESP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Eric CAPDEQUY  - CH DAX 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BUHAJ -  CH PERIGUEUX (2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Groupes de Travail COTRIM 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Groupe PSYCHIAT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43665-F601-4AA5-89F9-2FD8D58E5421}" type="slidenum">
              <a:rPr b="0" lang="fr-FR" sz="1600" spc="-1" strike="noStrike">
                <a:solidFill>
                  <a:srgbClr val="00808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517680" y="2124000"/>
          <a:ext cx="7792920" cy="3176640"/>
        </p:xfrm>
        <a:graphic>
          <a:graphicData uri="http://schemas.openxmlformats.org/drawingml/2006/table">
            <a:tbl>
              <a:tblPr/>
              <a:tblGrid>
                <a:gridCol w="3665520"/>
                <a:gridCol w="4127400"/>
              </a:tblGrid>
              <a:tr h="531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ordonnateur 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trick LANDREAU  - CH NIOR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orinne FREIMANN - CH LA CANDELIE (4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Marie Françoise ISSOULIE - CH TULLE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nédicte SOULA - CH des PYRENEES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atherine BALLAY - CH PAYS EYGURANDE (1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lorence BERTHELEMY -  CH LA ROCHELLE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Franck CHALARD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Véronique LANGLOIS-GEY  - CH ESQUIROL (8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Paul FORCET  - CH CAMILLE  CLAUDEL (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Roland BOUET - CH Henri LABORIT (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Isabelle BLANCHARD - CH COTE BASQUE SUD (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antal BERGEY - CH CHARLES PERRENS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Christine BOUVIER - ASSOCIATION RENOVATION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79b"/>
                    </a:solidFill>
                  </a:tcPr>
                </a:tc>
              </a:tr>
              <a:tr h="21996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 Bérénice BRECHAT-HUET -  CH de CADILLAC (3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6" name="Tableau 12" descr=""/>
          <p:cNvPicPr/>
          <p:nvPr/>
        </p:nvPicPr>
        <p:blipFill>
          <a:blip r:embed="rId1"/>
          <a:stretch/>
        </p:blipFill>
        <p:spPr>
          <a:xfrm>
            <a:off x="4187880" y="3333600"/>
            <a:ext cx="768240" cy="1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Objet 13"/>
          <p:cNvGraphicFramePr/>
          <p:nvPr/>
        </p:nvGraphicFramePr>
        <p:xfrm>
          <a:off x="517680" y="5753160"/>
          <a:ext cx="4330440" cy="1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8" name="Obje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7680" y="5753160"/>
                    <a:ext cx="433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92280" y="2943000"/>
            <a:ext cx="7494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Stratégie nationale de santé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et bases de données médicales</a:t>
            </a:r>
            <a:br>
              <a:rPr sz="3600"/>
            </a:br>
            <a:r>
              <a:rPr b="1" lang="fr-FR" sz="2500" spc="-1" strike="noStrike">
                <a:solidFill>
                  <a:srgbClr val="ffffff"/>
                </a:solidFill>
                <a:latin typeface="Microsoft PhagsPa"/>
                <a:ea typeface="MS PGothic"/>
              </a:rPr>
              <a:t>Dr Véronique GILLER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Picture 4" descr="I:\DIRECTION_GENERALE\COMMUNICATION\COM EXTERNE\EVENEMENTIELS EXTERNES\2015\Journee_qualite_securite_18112015\Invitation\ARS_NA_LOGO_RVB.jpg"/>
          <p:cNvPicPr/>
          <p:nvPr/>
        </p:nvPicPr>
        <p:blipFill>
          <a:blip r:embed="rId1"/>
          <a:stretch/>
        </p:blipFill>
        <p:spPr>
          <a:xfrm>
            <a:off x="0" y="0"/>
            <a:ext cx="2443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Nationale de San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Le principe d'une stratégie nationale de santé a été posé à l'article 1er de la loi du 26 janvier 2016 de "modernisation de notre système de santé", et son élaboration encadrée par un décret publié fin novembre 20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des domaines d’action prioritaires et des objectifs d’amélioration de la santé et de la protection sociale contre la mala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361ED-2F12-408E-8CC8-0C1046C73A5B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alibri"/>
              </a:rPr>
              <a:t>Saisine Haut Conseil Santé Publ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31360" y="1312560"/>
            <a:ext cx="81550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aisine du 17 mai 20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Calibri"/>
              </a:rPr>
              <a:t>le Secrétariat général des ministères chargés des affaires sociales (SGMCAS) et la Direction générale de la santé (DGS) ont sollicité l’avis HCSP sur la stratégie nationale de santé (S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Conférence de presse ministre le 18 sept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ublication des travaux sur le site HCS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hcsp.fr/explore.cgi/avisrapportsdomaine?clefr=6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Phase de concertation avant publication des textes officie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Stratégie nationale de santé sera déclinée en région dans le cadre de projets territoriaux 1</a:t>
            </a:r>
            <a:r>
              <a:rPr b="0" lang="fr-FR" sz="2700" spc="-1" strike="noStrike" baseline="30000">
                <a:solidFill>
                  <a:srgbClr val="00808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8080"/>
                </a:solidFill>
                <a:latin typeface="Calibri"/>
              </a:rPr>
              <a:t> semestre 20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Espace réservé du numéro de diapositive 4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EEBFA-1ECA-4680-9E13-7D557A1E9AF4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Prévention et promotion de la santé : axe essentiel de la S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6840" y="1312920"/>
            <a:ext cx="78152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000" spc="-1" strike="noStrike">
                <a:solidFill>
                  <a:srgbClr val="008080"/>
                </a:solidFill>
                <a:latin typeface="Calibri"/>
              </a:rPr>
              <a:t>Sept principaux objectif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alimentation saine et activité phys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maladies infectieu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Lutte contre les conduites addic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e la santé menta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omotion d’un environnement et de conditions de travail favorables à la sant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Amélioration du dépis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Calibri"/>
              </a:rPr>
              <a:t>Prévention de perte d’autonom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Espace réservé du numéro de diapositive 5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6083E-1BF4-4E7A-80B1-867D1294C7B3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Stratégie d’action pour une S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360360" y="131292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Mise en œuv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Pilotage par indicat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Renforcement de l’accès aux données et des    systèmes d’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 pilotage stratégique et opérati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-20268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Une évaluation de la 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Plan national de santé publ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08400" indent="-324360">
              <a:spcBef>
                <a:spcPts val="700"/>
              </a:spcBef>
              <a:buClr>
                <a:srgbClr val="000066"/>
              </a:buClr>
              <a:buFont typeface="Calibri"/>
              <a:buChar char="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Cohérence des objectifs et des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2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263CA-2D33-4D02-96C9-39C81BB9C3ED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alibri"/>
              </a:rPr>
              <a:t>Art 35 projet PLF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312920"/>
            <a:ext cx="80834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Cadre des expérimentations pour de nouvelles organisations (innovation organisationnel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Emergence de nouvelles organisations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. concourant à l’amélioration de la prise en charge et du parcours patient</a:t>
            </a:r>
            <a:r>
              <a:rPr b="0" lang="mr-IN" sz="3200" spc="-1" strike="noStrike">
                <a:solidFill>
                  <a:srgbClr val="008080"/>
                </a:solidFill>
                <a:latin typeface="Mangal"/>
                <a:ea typeface="Mang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8080"/>
                </a:solidFill>
                <a:latin typeface="Calibri"/>
              </a:rPr>
              <a:t>« décloisonner la prise en charge des patients pour une séquence de soin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Espace réservé du numéro de diapositive 3"/>
          <p:cNvSpPr/>
          <p:nvPr/>
        </p:nvSpPr>
        <p:spPr>
          <a:xfrm>
            <a:off x="68835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13767-1004-475F-B6BF-3FE046447538}" type="slidenum">
              <a:rPr b="0" lang="fr-FR" sz="1600" spc="-1" strike="noStrike">
                <a:solidFill>
                  <a:srgbClr val="008080"/>
                </a:solidFill>
                <a:latin typeface="Calibri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4" name="Titre 1"/>
          <p:cNvGrpSpPr/>
          <p:nvPr/>
        </p:nvGrpSpPr>
        <p:grpSpPr>
          <a:xfrm>
            <a:off x="-633240" y="450720"/>
            <a:ext cx="7394400" cy="5023080"/>
            <a:chOff x="-633240" y="450720"/>
            <a:chExt cx="7394400" cy="5023080"/>
          </a:xfrm>
        </p:grpSpPr>
        <p:pic>
          <p:nvPicPr>
            <p:cNvPr id="2005" name="Titre 1" descr=""/>
            <p:cNvPicPr/>
            <p:nvPr/>
          </p:nvPicPr>
          <p:blipFill>
            <a:blip r:embed="rId1"/>
            <a:stretch/>
          </p:blipFill>
          <p:spPr>
            <a:xfrm>
              <a:off x="-633240" y="450720"/>
              <a:ext cx="739440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-369720" y="719280"/>
              <a:ext cx="68594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23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0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PROJET RÉGIONAL DE SANTÉ NOUVELLE-AQUITAINE</a:t>
              </a:r>
              <a:br>
                <a:rPr sz="4300"/>
              </a:br>
              <a:r>
                <a:rPr b="1" lang="fr-FR" sz="3600" spc="-1" strike="noStrike">
                  <a:solidFill>
                    <a:srgbClr val="ffffff"/>
                  </a:solidFill>
                  <a:latin typeface="Microsoft PhagsPa"/>
                </a:rPr>
                <a:t>SON ACTUALITÉ</a:t>
              </a:r>
              <a:br>
                <a:rPr sz="3600"/>
              </a:br>
              <a:br>
                <a:rPr sz="3600"/>
              </a:br>
              <a:r>
                <a:rPr b="1" lang="fr-FR" sz="2500" spc="-1" strike="noStrike">
                  <a:solidFill>
                    <a:srgbClr val="ffffff"/>
                  </a:solidFill>
                  <a:latin typeface="Microsoft PhagsPa"/>
                </a:rPr>
                <a:t>DR ISABELLE JAMET</a:t>
              </a:r>
              <a:br>
                <a:rPr sz="3600"/>
              </a:br>
              <a:br>
                <a:rPr sz="3600"/>
              </a:b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8:27:43Z</dcterms:created>
  <dc:creator>delusk</dc:creator>
  <dc:description/>
  <dc:language>en-US</dc:language>
  <cp:lastModifiedBy>Isabelle Jamet</cp:lastModifiedBy>
  <cp:lastPrinted>2017-10-17T10:33:24Z</cp:lastPrinted>
  <dcterms:modified xsi:type="dcterms:W3CDTF">2017-10-17T10:34:04Z</dcterms:modified>
  <cp:revision>58</cp:revision>
  <dc:subject/>
  <dc:title>Diapositive 1</dc:title>
</cp:coreProperties>
</file>